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A9D-2E72-45B3-87ED-18293317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40B-5851-41B1-B480-C01E2B2D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6308E-C580-4A55-AF9C-4E8C6165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121F0-DB9E-4EA7-8593-8D15CFBE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BADEB-4AEA-468C-A368-1B95893B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27E6E-14CD-4D98-840D-7935C59B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DF1D6-F5E0-41BC-BF5F-0456B9AB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07B7A-D8D4-4BA0-B0BD-16705EC1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D8947-26BF-4C77-80BE-7BFE566B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13277-51E4-4833-A2FE-B6307197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E59A2-AA58-44D4-B0B2-7E2353D8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6CF26-C1EB-4D62-AFB4-79AF8598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F60-47EC-49B4-820A-67BDA690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D6264-9D76-445F-B394-8C4CF692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D38DC-344F-4BFE-99E7-DAF30003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A3E8D-9878-47AE-9A0E-5CCAF4A5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91211-7AE7-44E5-8647-37D7559C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31D6B-AA7E-4D22-9347-95DA3105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B7828-5A87-400F-9258-ED07507C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5F6E3-7B61-46D6-BE5B-1D18CD05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7751D-6DCE-44D3-9DD0-DACBAE47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ECED0-DE09-49DA-AA94-AD0BD075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D1070-FFC6-4A2F-97FE-00507DAA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633-3CFB-4868-B055-CAB3736D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4E11B-8116-4EF2-90B6-817CF86A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FFF1C-655B-4174-845D-D4B329F4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91FC8-38AA-4459-845E-48B1D53C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B1F65-D360-4F04-96B6-14DE4385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2F681-05BF-479A-9990-E5629D4E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41C49-DB4B-465B-9A0F-451B13B9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F67DE-EA6C-4792-B483-08544F3A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A23CC-0959-44EE-A8B8-5F1C8387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23C38-B563-42E5-B384-1C065A84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D39C3-B07A-4330-90E0-702AD8BA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B206-1B0B-4C7C-B463-3E884188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7992A-9B69-4844-BEE3-C7A54F77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C6C2C-4CCA-48CC-8455-3E1AC891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6D018-0E32-43E8-AA98-F4FA85E4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F8217-6FDD-4007-BCBF-090A0ED6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09E4D-E804-4C8E-B756-EE460E70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A88B5-A5CE-44DE-8B52-845B3098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4CA95-6F0B-46B0-BF57-92C974FC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DC9D8-CC82-4A1D-A97C-65066325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F0DE0-5A81-44E2-A0F6-0DE6AECC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66061-07FD-4AA3-ABF9-1A29CC1B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F8E7-BDC6-471C-BD3B-A2D2F676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1E9BD-B2EB-41EF-BB51-002191D8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7F411-138D-444C-A2B5-FD8B1218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E4791-66EA-4317-A56F-BC176BB0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0F953-F3C0-46AD-93D6-C8C7D422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24730-F6B9-467E-B031-AD7C34E0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5522-1EB2-4C8D-863E-69B05863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75AA-BAD2-4320-8326-6D26E65D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1DAD-D394-448E-AD04-9CB22926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657A-8228-415C-A882-C5623801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DACB-8BD1-44D2-A34C-BAB57F87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337-1E7D-4008-ABB8-81B40C73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3C71-AC92-4EAD-9F20-1BEC51EC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30C5-8EF6-405D-BBED-9A35BBBA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D046-B4F4-4CEE-B1F4-C385359B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773F-BE51-4F71-A791-F56749F3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418B-E60A-47E5-B1B5-E428EADA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954F-B436-4CCF-A3E8-A0D01AA2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43E22-FF00-4B04-A250-20DD34BA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E16C1-2CAD-4138-A153-FD3EDA80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22FC-A7A1-479E-A220-5BF8C45A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688C9-87DC-4AA2-8893-56643167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7C2-301C-4926-B3AD-40A116ED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DE4AA-0DA3-4993-A888-80DBDCD7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C391-BC91-42AC-B029-7AB4B135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D47D-67A8-43D6-9936-001D2624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62D9-A22A-4D6A-83AD-D996AEFD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6F35F-7FDD-44C1-912B-484062A9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8953-975B-42FC-82E5-AB7D037A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9CA2-FD7E-46D2-916F-921FC33E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3500-2430-4C94-8B77-77E25445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7357F-C0BF-47F3-8245-AB6F5C7A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73679-83D8-46EC-9257-2FC73B34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F208-FB74-48ED-B424-24049055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D7512-67B7-47F0-8F79-A1CCF879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66CC4-6EBD-411F-B9FD-C732634B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00147-4110-4319-9911-331856A9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4B3D2-3E83-4843-AF83-EB1F44FD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42BE7-5BE1-47D7-B230-68AD83D9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4F38-433C-4272-8CCF-55E82EC4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9EECF-BB7B-4332-9F0B-D4A3276C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BD906-453C-4102-BD77-C4E80B06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D4890-E3C3-446C-8E79-76CC197E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12EED-66B0-4B74-8D62-C5AE40BF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C18-E75A-46EF-B2E2-98ED155B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06A7F-72D0-4F16-88E0-90FAAEE3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6812E-1660-4585-86BA-4D411407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89DF1-A3BA-4697-B2A4-56D88188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46849-80EA-4A7D-A85D-56C83349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99CE0-F3AD-4AAF-8608-2F5B64C4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B5152-7FBC-41BA-8026-2A252381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6FD2-A24D-467E-AE6B-B21595F1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E1F7A-CF69-4A98-8308-4544465B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30E5D-28B0-4032-A3BF-58B40923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9E55-FE00-4F8C-9A11-EDBB5A7E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737-E3C6-4022-B56D-1A8756CC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C9AB0-6D33-4616-B527-31525DD4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F2074-C814-453A-A7A8-CDABE3AA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07AD6-E4CA-407A-A695-E39B46C9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3FEAE-E29F-4E29-A0D0-75579984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34AA1-1585-48C5-BBD8-F06A53AE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A2FE1-B20D-439B-B436-A05F16B8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766FE-EB9D-40FF-B1D6-E0512A2F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5A1A-509B-4545-9169-F4EB28C3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C9620-5A0B-4BFF-A4AF-155BE69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C7633-DDCA-4359-A020-DE30DE17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82B-30D7-43F6-8CF8-D60F67D2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77390-4912-4718-B4B3-FE46AF96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8835C-C3DD-472E-B268-0CD1871C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96ADA-A343-4367-B39C-467FB102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DA37C-FEEC-48DD-828D-293C0D78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D4F1F-11E5-42A4-8BB6-81D0CFB6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1CA2D-68F0-4B6A-82B1-51CE822A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8A2F2-6B59-4246-B721-D4DDA46F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C6049-7F1A-47F6-B3B3-11E275E9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347FA-20EC-4666-9C1C-55717BA9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E093D-19B5-4003-813E-814F1171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EF5-C310-426D-BD27-F1FF6EEA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C79AC-CF22-40BA-8367-7E190331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DD9F-E3D9-431F-B706-F50DFA87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E1064-5CC6-46E5-8846-BCE18F04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79B54-2903-423E-8355-7C28C10D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05154-E791-47AB-8868-62BF9A64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7BE8E-3968-4A71-9AFF-3AFD47DE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B0642-F13F-4587-AFAD-369B0DAF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68C01-1986-4494-ABB0-EE7D45BD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ACBD9-C257-44A4-9E0B-073F0310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1BF69-FFFF-427B-800F-AA350AF3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63F-4417-4552-897F-86CE9658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97414-8A47-40F0-A431-89395CCA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C7669-CDAF-4E4B-93DE-D05C6BF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9A92B-983F-4C05-A5CB-6F3FA8BD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1E375-3126-4B03-9A4D-3D69EB29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A6D06-15DE-4566-A85D-630CF003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9790C-0952-41FF-8640-AB3F84D3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7D23D-8CD4-454F-AFF7-A024EE93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8AB88-DBA5-4970-A1FE-5EF80666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4D102-D7ED-423B-A6C2-5500C3BD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24557-C75E-489D-88D6-4EE2A232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4B64-076F-4A69-81ED-9CA7B434C49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ABD9-D38C-4DB9-A7D1-7F5CE50D986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80AD-DA32-4513-9AC1-8C9FC58BE24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4155-A8B1-4293-954D-B56155CFEFC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0807-1548-44F0-9959-793D6C996DE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02B3-D144-47CA-A6E0-C891EE2E56B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B8A0-A851-469E-9F49-ACA8CF4D4C4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686F-1418-44FB-A10E-22133767F84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BF0F-F94B-4B09-A48D-54F5418120C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5C1C-8394-412F-86BE-412ACE2B9B4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9DFD-616A-459A-99F2-33C019EA5A2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D5C2-CC19-4F3C-BA32-134FC6EDD22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105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年第二次 教育訓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</a:rPr>
              <a:t>簡報者：張豔玥     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</a:rPr>
              <a:t>105.08.23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8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9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違反個資法規定，致個資遭不法蒐集、處理、利用或其他侵害當事人權利者，負損害賠償責任。但損害因天災、事變或其他不可抗力所致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如被害人不易或不能證明其實際損害額，以每人每一事件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00~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計算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同一原因事實造成多人權利受侵害，經當事人求償，最高以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億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為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能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證明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其無故意或過失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2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意圖營利違法蒐集、處理、利用或國際傳遞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 國際傳遞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限制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，得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意圖營利而對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進行非法變更、刪除或以其他非法方法，致妨害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之正確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而足生損害他人者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、拘役或科、或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10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舉證：軌跡紀錄、書面同意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為國際傳輸個人資料，而有下列情形之一者，中央目的事業主管機關得限制之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一、涉及國家重大利益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二、國際條約或協定有特別規定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三、接受國對於個人資料之保護未有完善之法規，致有損當事人權益之虞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四、以迂迴方法向第三國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地區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傳輸個人資料規避本法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國際傳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73e87"/>
                </a:solidFill>
                <a:latin typeface="標楷體"/>
              </a:rPr>
              <a:t>   </a:t>
            </a:r>
            <a:r>
              <a:rPr b="0" lang="en-US" sz="9600" spc="-1" strike="noStrike">
                <a:solidFill>
                  <a:srgbClr val="073e87"/>
                </a:solidFill>
                <a:latin typeface="標楷體"/>
              </a:rPr>
              <a:t>THE END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ff"/>
                </a:solidFill>
                <a:latin typeface="標楷體"/>
              </a:rPr>
              <a:t>謝謝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BS10012 </a:t>
            </a: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個人資訊管理系統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有效期限：</a:t>
            </a: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2014.1.08.~2017.1.07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標楷體"/>
              </a:rPr>
              <a:t>公司的認證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品質 是我們一貫的堅持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專業 是我們服務的基礎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誠懇 是我們處事的態度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安全 是我們事業的保障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lvl="1" marL="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</a:rPr>
              <a:t>資訊安全政策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71560" y="2421000"/>
            <a:ext cx="740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中華民國個人資料保護法及其相關法律法規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公司個人資料保護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保護受託客戶之資訊安全及遵守個人資料管理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      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對於資訊安全及個人資料蒐集、處理及利用，因執行業務所持有之任何個人資料，負有保密義務，非經公司同意，不得以任何方式，直接或間接向第三人透露或使其知悉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BS10012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保護要求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個人資料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：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指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自然人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之姓名、出生年月日、身分證統一編號、護照號碼、特徵、指紋、婚姻、家庭、教育、職業、病歷、醫療、基因、性生活、健康檢查、犯罪前科、聯絡方式、財務情況、社會活動及其他得以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直接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或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間接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方式識別該個人之資料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依法公告、公開或應刊登公報的法人資料，不受個資法規範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例如：公司統一編號、營業處所、負責人姓名等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名詞定義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新細明體"/>
              </a:rPr>
              <a:t>蒐集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：指以任何方式取得個人資料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處理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為建立或利用個人資料檔案所為資料之記錄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、輸入、儲存、編輯、更正、複製、檢索、刪除、輸出、連結或內部傳送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利用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將蒐集之個人資料為處理以外之使用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個人資料 名詞定義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第八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</a:rPr>
              <a:t>非公務機關</a:t>
            </a: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依第十五條或第十九條規定向當事人蒐集個人資料時，應明確告知當事人下列事項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資法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-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告知義務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9" name="圖片 3" descr=""/>
          <p:cNvPicPr/>
          <p:nvPr/>
        </p:nvPicPr>
        <p:blipFill>
          <a:blip r:embed="rId1"/>
          <a:stretch/>
        </p:blipFill>
        <p:spPr>
          <a:xfrm>
            <a:off x="1004760" y="3068640"/>
            <a:ext cx="7383600" cy="3673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871560" y="1916280"/>
            <a:ext cx="7408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依據個人資料管理之要求，公司蒐集個人資料之特定目的為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02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人事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90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消費者、客戶管理與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07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採購與供應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1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場所進出安全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5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與資料庫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81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其他經營合於營業登記項目或組織章程所定之業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</a:rPr>
              <a:t>個人資料 特定目的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本公司蒐集個人資料之類別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識別個人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住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工作地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住家電話號碼、行動電話、即時通帳號、相片、指紋</a:t>
            </a: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…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等其他任何可辨識資料本人者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2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辨識財務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金融機構帳戶之號碼與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信用卡或簽帳卡之號碼、個人之其他號碼或帳戶等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2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家庭其他成員之細節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5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學校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6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離職經過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8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信用評等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11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健康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 範圍及類別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5:38:07Z</dcterms:created>
  <dc:creator>User</dc:creator>
  <dc:description/>
  <dc:language>en-US</dc:language>
  <cp:lastModifiedBy>linda</cp:lastModifiedBy>
  <dcterms:modified xsi:type="dcterms:W3CDTF">2016-08-11T05:40:05Z</dcterms:modified>
  <cp:revision>16</cp:revision>
  <dc:subject/>
  <dc:title>104年第四季 教育訓練</dc:title>
</cp:coreProperties>
</file>