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7CC-F9FC-4183-ABB4-76F05632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0F08-5852-4900-BC21-8AEB30B8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049F4-B0AB-4732-8F81-4B190CEB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D79AE-9149-443F-8BE1-E250AB16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86C97-F603-4DBF-B6FC-8C28D54F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7066E-E579-4EA5-814B-5BE0529C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1DBF1-098C-44A0-A6F6-EB716FA5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4BCED-8A06-419A-86A6-01D16112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3FAA5-B678-48F9-8F0B-3F34E2B0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AAA42-2B2E-4FD1-909A-FD2E046F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C50DF-4C33-4E52-8A7F-93B7F656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1B6A2-9092-4F86-AF03-B60E7334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F3D-0E12-459C-B788-E4267040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A0870-D8F3-4573-9E06-BAD28D3A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23565-6191-4418-BA53-2604EAB9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96D57-24F8-4A96-B11A-90458ED1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DDE68-F6FD-42ED-836A-F17B420C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4B044-5377-4900-B47C-886ABF12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CE5E2-58D9-470F-80BA-EC3DC7AB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940E7-E84A-4DA1-9F1A-C33FC1EC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E51AD-6E83-46C3-90A4-21ABFDFF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8CFB4-491C-467A-B4E6-F9179519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9BD7A-12D5-4F9A-88D7-7056C9C0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564D-13AB-4DB3-994F-ECF145A3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F0C72-995C-485C-8681-2FAADBD3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D0AA1-08D7-4987-89A0-E090CF59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E81BE-0B86-4599-BF61-D116BC0F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4E22F-433D-40F1-80F3-184C30A2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0CABD-5C8F-43D4-A46B-5B860526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45D14-3C3A-4B89-8C13-E246C96C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0D479-8861-4CEB-9B91-0AE6E125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5856E-2D8F-4093-A687-B77D93E4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F177A-0DBE-4672-A04D-C824DE92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E730C-6FB8-4782-B45E-2E0B6FDF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D0E4-020D-4F17-826E-6C3E14DF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A4BB4-49C3-4CE2-86EE-A00B5096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B1101-204E-41FF-A22D-B3771726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CF765-52AB-476B-8A70-4B50B4D5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A49004-9DA8-4D27-9894-787DE4C0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42213-F784-4FD7-8B5F-AB404B3D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5960B-19A8-46A8-96E9-E3C870D3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C25AE-EC2C-4452-9803-0A17EFB1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43ED0-F786-4864-90A0-180AF22B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BB191-A2B1-4E1C-A98E-7037B254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53305-1710-4E23-869D-EF6DDC64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9E72-1553-4892-811D-E418090D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7A304-E65F-4323-9D58-29CB3E29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CA713-08DD-49D9-A766-D059DF55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48572-4C5F-4542-84D7-B5A38C60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5F5E7-D7E2-466D-B99A-160DAD1E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58760-C4AD-4CD1-A600-508744D6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39C4-AFA3-40D6-B256-C18C9F2D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B307-310E-4205-A9AD-31E1DED4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B6A2-E5FB-480C-8766-F6814BF7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0514-8437-4D1D-996D-2B3CBC16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2885-6AF9-4199-8F1D-892194A7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C57-E833-462B-A939-C9F9F639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8401-5545-46E1-9580-D9D628AB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5C91-CF2D-40C7-B0D5-EE553B7B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7593-BF37-4B7F-BE18-1D3DD70B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6A45-DC69-43F5-B834-8248DFDB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DB20-790B-4956-8C8E-91FBBE4C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BBE0F-F61E-4F63-B264-34D54E3B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3AA4-8B0D-45A0-8AFC-C1B3976B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3836D-FCC4-49D5-B07B-7B1698CD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21A90-01E1-4BEB-85CC-AA1A6832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9DB45-DAD9-4DF8-A00C-5FD86972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7F4-E21C-41E6-BAB5-87B8BB5A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69334-B705-4B30-BF5F-CC47FAE2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8B5A8-8678-4BB3-B95E-FDDADE2D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5A5EC-879C-4727-B06C-A5A8AC2B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0C177-5EC7-40EE-A8B0-D7B17DC7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672E4-B759-4498-AD52-6C2EE762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5EE7D-9F53-4272-9452-8F700F55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27AF7-C467-411A-8764-6EDA2C3F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52AED-B37B-475A-9D02-BDEA27F6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31063-603F-4B3A-932E-2C0A6AE3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A4C98-8780-40ED-B49A-03DAEF83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ECB-9FB4-4D56-9185-FBE941AE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C515F-D5BA-41C4-ACE6-D61A0270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230B3-04AB-46A1-98A9-E982DE2F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80C50-F64A-4A4F-A897-2A5A2612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7DE14-8945-4390-8AB9-F7A67767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AC33D-22EE-48AC-8208-09DB5569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5E431-8B93-441B-8863-2A87DC67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C8D72-6448-4B84-97B4-4F9EF160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4B0A0-498D-4DCD-81EF-1558DF9D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0498F-943C-44A7-BCA1-C8FD8A04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23B0F-7E37-4DE0-91F3-44BDF183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F9B-ED74-4BB7-BE7D-2B70BDFB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1B9BD-B468-47AC-B2A4-44611140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51BA3-DA13-46AA-AB42-6174DC86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C8E21-C073-4A8D-9DAE-80FA5B4D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41762-CD94-4AE3-8A0A-B2C83EFC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88E36-2652-4015-A057-356BAE55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D3725-4EC9-4A8A-9F82-1DDD6376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827DA-C317-4C86-9DCB-8A2AAC06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AC380-E9C5-408F-8666-6663B11F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06495-0AB4-44FA-BA7A-19FCC744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8F4EF-A64B-4AB3-B134-A6D93812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341-ABF4-49D4-8224-6B911B33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DDB5A-EB09-477F-8982-7EC4FF16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B22A5-0886-4BA5-859D-3AF25893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EFC89-96AD-48A3-AC0B-1EF6494A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8AB82-DFF7-497F-84EA-4D8F1980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BC55F-1D4A-4897-BCFA-1EA9673F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DCA03-7D0A-49E1-BFAB-65553330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7F52C-700D-428E-90DA-1C5522E4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B4708-FAB0-4A28-96B5-8F4B4036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479A8-527D-4380-A0E3-33A59C4C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391C0-09F1-4FAC-B8BD-7D4CE2E9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2B1-4380-457E-9A58-10209289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C359C-EE54-43D2-B2CA-F72FA122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151CF-1DB2-4D2F-A789-CC1793F8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5E046-642A-4895-BB7E-3ADBA8B8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B85F3-B826-42E6-861E-EF4595DD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EF867-A14A-4D16-B073-72FFE689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100F7-80E1-40BC-A65B-8FF04AC1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AC7CA-08C4-4854-8B8A-60702876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79476-2806-4845-AAE3-627DF89A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E6597-E8AD-4E77-9582-4549CBA1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BB775-CDFA-40CE-9A61-E69BB112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E5C-2F4F-4806-839F-0B6D6A14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FDCEA-38F1-4AEA-80A4-473E80E4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8B5DF-1370-44DE-B055-982B5114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F7A5E-5B05-461A-A696-4093733C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9B098-63CD-4879-B3A3-DA49F2C7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EC2D2-98BF-46C3-B763-EDF92D6F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9E303-79D3-4F15-82B7-3FFE062F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B6A46-CA02-4E80-8AD2-59C74E21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61E60-C709-4F5E-B606-02F64858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2DE34-9706-4BB5-AA27-673C1490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D351C-6482-4F89-8656-344D49C3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1F85-69E7-489C-A97F-DF20D471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7ADA8-FDC9-4B8A-907A-19887C45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0E02D-53BA-4C0D-87CE-76180843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61DA6-AC79-4DFE-A037-192A7FB7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44781-40AA-4C88-AF7D-9602CEE7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43415-D50C-4A32-AA83-693BBCCF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CBFE9-16EB-4F06-BFBD-AFAA9965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80E17-9019-405A-99D4-D6507F1B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E2F58-CE7D-4A0E-91DE-040BA396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D9144-DE8D-4331-A81A-D8615EE8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7A9F1-ED07-4DDD-9A9A-60406631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5ED9-6556-4689-92FB-62AD062970A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07D9-0EBF-4A2C-960F-9899DDAEC04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8957-F578-4C72-84FD-289273E761E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5BAF-6DE8-4579-8A92-8E0A60FA6F7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F5F6-233D-4113-8552-B793B05559A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6275-D540-4003-AB76-EACA0A74312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0B46-73F4-4953-A902-3BF10A54B23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BBCE-8459-4DF5-B8A7-085935F992B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644A-4512-4F36-A395-2E8808FFCC44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1D3B-FE60-436E-A14B-396C374F8A3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6623-17CF-432E-8AED-5C44B1EC217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C151-6B31-4FB1-9176-BB45F99BD41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105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年第二次 教育訓練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4292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標楷體"/>
              </a:rPr>
              <a:t>簡報者：張豔玥     </a:t>
            </a:r>
            <a:r>
              <a:rPr b="1" lang="en-US" sz="1800" spc="-1" strike="noStrike">
                <a:solidFill>
                  <a:srgbClr val="ffffff"/>
                </a:solidFill>
                <a:latin typeface="標楷體"/>
              </a:rPr>
              <a:t>105.08.23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8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、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9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公務機關或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違反個資法規定，致個資遭不法蒐集、處理、利用或其他侵害當事人權利者，負損害賠償責任。但損害因天災、事變或其他不可抗力所致者，不在此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如被害人不易或不能證明其實際損害額，以每人每一事件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500~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計算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同一原因事實造成多人權利受侵害，經當事人求償，最高以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億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為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公務機關或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能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證明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其無故意或過失者，不在此限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罰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4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、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42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意圖營利違法蒐集、處理、利用或國際傳遞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(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 國際傳遞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限制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)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，處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年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以下有期徒刑，得併科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20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以下罰金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意圖營利而對</a:t>
            </a:r>
            <a:r>
              <a:rPr b="1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檔案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進行非法變更、刪除或以其他非法方法，致妨害</a:t>
            </a:r>
            <a:r>
              <a:rPr b="1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個資檔案之正確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而足生損害他人者，處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5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年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以下有期徒刑、拘役或科、或併科新台幣</a:t>
            </a:r>
            <a:r>
              <a:rPr b="1" lang="en-US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100</a:t>
            </a:r>
            <a:r>
              <a:rPr b="1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萬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元以下罰金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舉證：軌跡紀錄、書面同意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罰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第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21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條：</a:t>
            </a:r>
            <a:r>
              <a:rPr b="0" lang="zh-TW" sz="2400" spc="-1" strike="noStrike">
                <a:solidFill>
                  <a:srgbClr val="ff0000"/>
                </a:solidFill>
                <a:latin typeface="Candara"/>
                <a:ea typeface="華康隸書體W7(P)"/>
              </a:rPr>
              <a:t>非公務機關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為國際傳輸個人資料，而有下列情形之一者，中央目的事業主管機關得限制之：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一、涉及國家重大利益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二、國際條約或協定有特別規定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三、接受國對於個人資料之保護未有完善之法規，致有損當事人權益之虞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buClr>
                <a:srgbClr val="073e87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四、以迂迴方法向第三國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(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地區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)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  <a:ea typeface="華康隸書體W7(P)"/>
              </a:rPr>
              <a:t>傳輸個人資料規避本法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個資法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-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  <a:ea typeface="華康隸書體W7(P)"/>
              </a:rPr>
              <a:t>國際傳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73e87"/>
                </a:solidFill>
                <a:latin typeface="標楷體"/>
              </a:rPr>
              <a:t>   </a:t>
            </a:r>
            <a:r>
              <a:rPr b="0" lang="en-US" sz="9600" spc="-1" strike="noStrike">
                <a:solidFill>
                  <a:srgbClr val="073e87"/>
                </a:solidFill>
                <a:latin typeface="標楷體"/>
              </a:rPr>
              <a:t>THE END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ff"/>
                </a:solidFill>
                <a:latin typeface="標楷體"/>
              </a:rPr>
              <a:t>謝謝</a:t>
            </a:r>
            <a:endParaRPr b="0" lang="en-US" sz="9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2e65"/>
                </a:solidFill>
                <a:latin typeface="標楷體"/>
              </a:rPr>
              <a:t>BS10012 </a:t>
            </a:r>
            <a:r>
              <a:rPr b="0" lang="zh-TW" sz="3200" spc="-1" strike="noStrike">
                <a:solidFill>
                  <a:srgbClr val="052e65"/>
                </a:solidFill>
                <a:latin typeface="標楷體"/>
              </a:rPr>
              <a:t>個人資訊管理系統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52e65"/>
                </a:solidFill>
                <a:latin typeface="標楷體"/>
              </a:rPr>
              <a:t>有效期限：</a:t>
            </a:r>
            <a:r>
              <a:rPr b="0" lang="en-US" sz="3200" spc="-1" strike="noStrike">
                <a:solidFill>
                  <a:srgbClr val="052e65"/>
                </a:solidFill>
                <a:latin typeface="標楷體"/>
              </a:rPr>
              <a:t>2014.1.08.~2017.1.07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ffff"/>
                </a:solidFill>
                <a:latin typeface="標楷體"/>
              </a:rPr>
              <a:t>公司的認證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品質 是我們一貫的堅持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專業 是我們服務的基礎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誠懇 是我們處事的態度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安全 是我們事業的保障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lvl="1" marL="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標楷體"/>
              </a:rPr>
              <a:t>資訊安全政策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871560" y="2421000"/>
            <a:ext cx="7408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遵守中華民國個人資料保護法及其相關法律法規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遵守公司個人資料保護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保護受託客戶之資訊安全及遵守個人資料管理要求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      </a:t>
            </a: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對於資訊安全及個人資料蒐集、處理及利用，因執行業務所持有之任何個人資料，負有保密義務，非經公司同意，不得以任何方式，直接或間接向第三人透露或使其知悉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BS10012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 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人資料保護要求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個人資料</a:t>
            </a:r>
            <a:r>
              <a:rPr b="1" lang="zh-TW" sz="2800" spc="-1" strike="noStrike">
                <a:solidFill>
                  <a:srgbClr val="073e87"/>
                </a:solidFill>
                <a:latin typeface="標楷體"/>
              </a:rPr>
              <a:t>：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指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自然人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之姓名、出生年月日、身分證統一編號、護照號碼、特徵、指紋、婚姻、家庭、教育、職業、病歷、醫療、基因、性生活、健康檢查、犯罪前科、聯絡方式、財務情況、社會活動及其他得以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直接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或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</a:rPr>
              <a:t>間接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方式識別該個人之資料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依法公告、公開或應刊登公報的法人資料，不受個資法規範</a:t>
            </a:r>
            <a:r>
              <a:rPr b="0" lang="en-US" sz="2800" spc="-1" strike="noStrike">
                <a:solidFill>
                  <a:srgbClr val="052e65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例如：公司統一編號、營業處所、負責人姓名等</a:t>
            </a:r>
            <a:r>
              <a:rPr b="0" lang="en-US" sz="2800" spc="-1" strike="noStrike">
                <a:solidFill>
                  <a:srgbClr val="052e65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52e65"/>
                </a:solidFill>
                <a:latin typeface="標楷體"/>
              </a:rPr>
              <a:t>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名詞定義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新細明體"/>
              </a:rPr>
              <a:t>蒐集</a:t>
            </a:r>
            <a:r>
              <a:rPr b="0" lang="zh-TW" sz="2400" spc="-1" strike="noStrike">
                <a:solidFill>
                  <a:srgbClr val="073e87"/>
                </a:solidFill>
                <a:latin typeface="新細明體"/>
              </a:rPr>
              <a:t>：指以任何方式取得個人資料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andara"/>
              </a:rPr>
              <a:t>處理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：指為建立或利用個人資料檔案所為資料之記錄</a:t>
            </a:r>
            <a:r>
              <a:rPr b="0" lang="zh-TW" sz="2400" spc="-1" strike="noStrike">
                <a:solidFill>
                  <a:srgbClr val="073e87"/>
                </a:solidFill>
                <a:latin typeface="新細明體"/>
              </a:rPr>
              <a:t>、輸入、儲存、編輯、更正、複製、檢索、刪除、輸出、連結或內部傳送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Candara"/>
              </a:rPr>
              <a:t>利用</a:t>
            </a:r>
            <a:r>
              <a:rPr b="0" lang="zh-TW" sz="2400" spc="-1" strike="noStrike">
                <a:solidFill>
                  <a:srgbClr val="073e87"/>
                </a:solidFill>
                <a:latin typeface="Candara"/>
              </a:rPr>
              <a:t>：指將蒐集之個人資料為處理以外之使用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個人資料 名詞定義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871560" y="1773360"/>
            <a:ext cx="7408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52e65"/>
                </a:solidFill>
                <a:latin typeface="標楷體"/>
              </a:rPr>
              <a:t>第八條：公務機關或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</a:rPr>
              <a:t>非公務機關</a:t>
            </a:r>
            <a:r>
              <a:rPr b="0" lang="zh-TW" sz="2400" spc="-1" strike="noStrike">
                <a:solidFill>
                  <a:srgbClr val="052e65"/>
                </a:solidFill>
                <a:latin typeface="標楷體"/>
              </a:rPr>
              <a:t>依第十五條或第十九條規定向當事人蒐集個人資料時，應明確告知當事人下列事項：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資法</a:t>
            </a:r>
            <a:r>
              <a:rPr b="0" lang="en-US" sz="4800" spc="-1" strike="noStrike">
                <a:solidFill>
                  <a:srgbClr val="ffffff"/>
                </a:solidFill>
                <a:latin typeface="標楷體"/>
              </a:rPr>
              <a:t>-</a:t>
            </a: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告知義務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589" name="圖片 3" descr=""/>
          <p:cNvPicPr/>
          <p:nvPr/>
        </p:nvPicPr>
        <p:blipFill>
          <a:blip r:embed="rId1"/>
          <a:stretch/>
        </p:blipFill>
        <p:spPr>
          <a:xfrm>
            <a:off x="1004760" y="3068640"/>
            <a:ext cx="7383600" cy="36734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871560" y="1916280"/>
            <a:ext cx="7408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依據個人資料管理之要求，公司蒐集個人資料之特定目的為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002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人事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090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消費者、客戶管理與服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07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採購與供應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16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場所進出安全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35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資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通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訊服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36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資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(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通</a:t>
            </a: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)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訊與資料庫管理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標楷體"/>
              </a:rPr>
              <a:t>181</a:t>
            </a:r>
            <a:r>
              <a:rPr b="0" lang="zh-TW" sz="2800" spc="-1" strike="noStrike">
                <a:solidFill>
                  <a:srgbClr val="073e87"/>
                </a:solidFill>
                <a:latin typeface="標楷體"/>
              </a:rPr>
              <a:t>其他經營合於營業登記項目或組織章程所定之業務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</a:rPr>
              <a:t>個人資料 特定目的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本公司蒐集個人資料之類別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0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識別個人者：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姓名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住址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工作地址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住家電話號碼、行動電話、即時通帳號、相片、指紋</a:t>
            </a: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…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等其他任何可辨識資料本人者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02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辨識財務者：</a:t>
            </a:r>
            <a:r>
              <a:rPr b="0" lang="zh-TW" sz="2200" spc="-1" strike="noStrike">
                <a:solidFill>
                  <a:srgbClr val="ff0000"/>
                </a:solidFill>
                <a:latin typeface="標楷體"/>
              </a:rPr>
              <a:t>金融機構帳戶之號碼與姓名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、信用卡或簽帳卡之號碼、個人之其他號碼或帳戶等。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2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家庭其他成員之細節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5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學校紀錄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6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離職經過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083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信用評等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標楷體"/>
              </a:rPr>
              <a:t>C111</a:t>
            </a:r>
            <a:r>
              <a:rPr b="0" lang="zh-TW" sz="2200" spc="-1" strike="noStrike">
                <a:solidFill>
                  <a:srgbClr val="073e87"/>
                </a:solidFill>
                <a:latin typeface="標楷體"/>
              </a:rPr>
              <a:t>健康紀錄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標楷體"/>
              </a:rPr>
              <a:t>個人資料 範圍及類別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5:38:07Z</dcterms:created>
  <dc:creator>User</dc:creator>
  <dc:description/>
  <dc:language>en-US</dc:language>
  <cp:lastModifiedBy>linda</cp:lastModifiedBy>
  <dcterms:modified xsi:type="dcterms:W3CDTF">2016-08-11T05:40:05Z</dcterms:modified>
  <cp:revision>16</cp:revision>
  <dc:subject/>
  <dc:title>104年第四季 教育訓練</dc:title>
</cp:coreProperties>
</file>