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437-7EA3-4347-8706-6ED815A0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10C-CACD-415E-9F11-3206F017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E4E0F-2ECE-4F1E-8E84-B8F59713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7EE45-ACBC-4F73-B329-29275DD3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218F9-C561-4E9D-B125-A93F7764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9AF3A-4166-4BE9-869D-89CCC19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1481F-5436-4975-8165-0EF1264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CA572-59C2-4005-A7FE-BD4B281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70094-F189-4ADA-8237-DAEE8258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999B0-F68C-48AB-9666-B906178A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2AA1B-AF63-4782-9D3D-D0282593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2D14A-0EC3-4818-BA99-79495773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8C0-9D15-4918-8FAE-6D5B0469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DE2C8-4A33-49E0-8987-1BC60AD0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E1B42-9F0C-4B20-A8CE-545D8272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B6CF9-1F91-463E-BBD0-0605F1C6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B4526-53B0-4DB3-A07B-06C8DFCD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2CD59-35E9-47FA-BF2D-70091251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D804E-3A84-4CAF-B956-C4C0CCA5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8159C-8EE6-4937-8391-ED9FDB14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E85AA-64BC-417B-B7BE-B1C4B149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73CDF-82D3-4181-88BB-0C5EF0E4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996FC-1EEB-4AB6-927F-13852AA5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780-D72A-4E52-B510-E37A5D2F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FE172-FBCE-49CB-B79F-FB9910E9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DE20E-AD0B-4CC9-8E98-D1974F8E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51076-632F-4B0B-9976-D50996B2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AE813-9405-4D44-907E-CB6EC996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80761-CD55-4978-BD71-951E0373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5D1A3-0EF0-4520-8451-8377F130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9161C-D568-4B10-8D1C-01316E52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A4C1C-0865-41E9-897F-6EE162D6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941C7-9977-47E5-BC45-FEF17CD1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CA96B-433D-4C84-BD34-9CEF4D6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4BF8-C353-485D-B722-7757CFDC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D6697-BF81-410B-B968-E5620FCA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7BF65-8430-4365-A3BC-80A41224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F1A10-5B0E-486A-A8CC-033C8217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C4E2D-F214-4E45-A038-24C9CDD5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AF5F2-3BCC-4326-B34E-3F1187E2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A5B3C-0352-48C7-B764-1CC377CF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39899-D3C5-47A5-8675-07F06D4F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4F112-1D8B-4346-A68C-BCE78184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371F5-6C24-476B-A25D-C0784AB1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C87F2-B62C-4B94-8698-27257115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F3CF-40C6-457E-B642-FE3AAC7E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A5D96-7B14-405A-BD42-4CE26F6C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89ABF-5326-44D7-81DF-907B0D53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3C84D-1519-466E-BD10-DD4D002F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E40FC-EF18-4D67-A286-6CF22BCD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7EFF8-938B-4B2B-A49E-6109AAA4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36CB-42D7-4EF5-AE89-15371D96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70D7-C398-4867-BF35-19C970C2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8DE7-A9D3-4218-855E-C55EA6FD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ECF4-9871-4973-A75F-EA390163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027C-BD14-425E-8B5F-CE213B2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0F2-E8AE-46D7-99CA-7894152A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174C-98A8-4A9E-8A6C-B1728F86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C6A5-8D81-4701-8B27-2EE1CFF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D655-C403-444C-8C8F-B619D24D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CC5F-C203-4695-9189-3BE824C2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5074-03F6-406F-992D-A68A260F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9731F-A542-4F7C-A64B-53279E44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B002-F7C6-4F05-B5C5-71A9522F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E40EA-2F6B-4B6E-BE26-3DF91920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9E7F-5116-4C7C-83CB-71994EC9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4844-2F79-4B90-B63A-04CD0642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992-7604-44EC-AB28-480B6DE1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7E0F-A6E6-46F1-8501-E8172AF7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DBB6-02B6-4CED-A64E-696805F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3927-7182-456C-BE52-B88BCEFD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26AB-87E0-416E-B184-89A4F837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7C32-C3D4-411B-A4B6-96378211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8AF9-2C7F-44C1-94DC-76556361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CCFC-12C0-499D-A6EA-5CFBD52D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F61F-EFBC-4AC0-8498-5E490D14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0CDC-DBFF-481E-BC24-7B653319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4AD7B-BF72-493F-8F87-755E5265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55E-2608-43CC-8F08-4C76B899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0B9D-E18E-48FB-8DDF-B7691A76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1B39-D7CF-48F0-BF63-6326017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0D1E-20E1-46FB-B5D3-3022AAE2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20E5-539D-48F6-AD6C-08FD9272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0D97-89C5-4ABC-8FBC-A49948C6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BD02-F324-4E74-833D-66154C5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EB1C8-7E43-49F1-A5CF-79BA3438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4EA2-CA22-4B1C-A232-FDDC8FBD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98BFD-75C5-4C04-8D64-AFA368DD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3380-C9B6-488A-A5F5-6779C2A9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A18-8804-4B12-82F8-460E72A2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D8400-23D4-4821-B78E-75A932AA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3939-0DD9-46E2-8CF4-B4E4DEA2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2BA41-0A6D-49D6-913C-EBF0A05C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6B98D-514C-4A6B-B6E1-C753EB7A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9DC8-B4A5-4C9F-AC2A-9CF50303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9623C-B032-4A53-9F7A-9A36BE7F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6F97-C1F0-4A2E-9D2D-5720DD8F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DFDE-25EB-4709-A152-191945D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0D503-56FF-46AB-8A6F-FB98385F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E0A26-86D5-4B3A-9562-FBEA291C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86A-8179-4C53-9455-36D60168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30EAD-B2CC-4EED-9E6D-88DF1CE7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BD8F8-11AD-4877-9731-48A57DFE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E1DB-CDBD-41C9-8038-A1217D2A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A9D20-C48A-4B4E-AD09-F94E282B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074E3-138E-4975-BA09-233918A9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517D4-5202-410A-8159-291A7E2F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6E0A4-8888-46B9-B683-D047C065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8144B-2483-43AE-8369-015CF224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9F567-5415-4DCC-A8C1-31285A56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C262-B174-4B92-9A2D-EB24E4F3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D13-6111-465F-AB83-C453FB3E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FBA79-2845-4FE1-80EA-F18EBCE7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1FD8-BF9F-4494-BF47-6172AFB9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54996-7045-4F9B-A834-77EC2440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77288-F0D8-42B4-8ECD-2C4E0B0B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587A1-0FF2-4321-8D52-33480DD8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B4EC4-9796-4378-AD7E-2960CE7C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11751-796D-4896-859F-0321F698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7AA8-C19C-4992-855E-D679C9E6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0F684-9136-49C6-975F-CD7E89FB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708B-4078-4712-9604-66C47FD7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695-A857-4134-843B-5D799DAF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47658-4A10-433A-A05F-57CBD02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7E536-1F26-4D72-8A93-D0224D6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7E4FD-9419-4CD2-8222-6A2D3AC2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0316A-C57D-44D8-B744-CA104CF6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E167E-096E-4DCF-AA29-4984A19C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ECBA1-3B6E-475B-9CCD-BD17F10B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07677-6273-43C3-B3B0-B8F7E043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C98B8-AA1D-4D25-AF50-D005381B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26AD1-8E33-49F0-96F1-73D2A0A6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F391B-BEF2-401A-B8CC-E42BBF90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D29-6E3F-4C97-883D-AE084DAC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D9397-57CF-4E1F-A6B0-0E1B30CB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A1AAC-C644-4B0D-A1A0-C8416091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7DBED-6AC8-47C1-B55F-C9D98DC8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3A7B8-D020-4D73-98F5-3529378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4416A-54A8-4312-8D06-1339A947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0841-ECF0-46F3-B9CA-9AC526B8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55115-583D-499C-880F-3FC0AEF0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CAD5-1149-4B13-A660-9769E424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93F91-EE7A-4DBC-AAB6-5FB7F03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8ABB0-E767-462C-AB50-CC54D6D0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2C8D-8C3F-4AB1-8129-611C514C6C0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A640-8333-4EFB-B372-D19BEC86DCB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477E-6D31-409B-B94B-47300D110BD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F9EC-922D-4429-B0AF-F87365CA5E9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0AF-1BFB-40EC-9DD5-5232BEFF506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0D64-BFA8-4D3E-9D93-36E00BEB291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9299-B51F-4E67-BC8D-DD374BD2E72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FE03-EDD6-4B48-A4E2-3C166F5F2C5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1E0E-5C27-4C21-98C2-3EB1E4736B2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08AA-4E48-46D1-BB22-A6B04595AF6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38A3-CD37-4FE4-9571-FB47D4C1A96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8094-FD5D-46DD-BE38-37689C0E26F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105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年第二次 教育訓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</a:rPr>
              <a:t>簡報者：張豔玥     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</a:rPr>
              <a:t>105.08.23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8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9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違反個資法規定，致個資遭不法蒐集、處理、利用或其他侵害當事人權利者，負損害賠償責任。但損害因天災、事變或其他不可抗力所致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如被害人不易或不能證明其實際損害額，以每人每一事件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00~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計算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同一原因事實造成多人權利受侵害，經當事人求償，最高以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億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為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能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證明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其無故意或過失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2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意圖營利違法蒐集、處理、利用或國際傳遞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 國際傳遞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限制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，得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意圖營利而對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進行非法變更、刪除或以其他非法方法，致妨害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之正確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而足生損害他人者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、拘役或科、或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10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舉證：軌跡紀錄、書面同意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為國際傳輸個人資料，而有下列情形之一者，中央目的事業主管機關得限制之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一、涉及國家重大利益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二、國際條約或協定有特別規定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三、接受國對於個人資料之保護未有完善之法規，致有損當事人權益之虞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四、以迂迴方法向第三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地區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傳輸個人資料規避本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國際傳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73e87"/>
                </a:solidFill>
                <a:latin typeface="標楷體"/>
              </a:rPr>
              <a:t>   </a:t>
            </a:r>
            <a:r>
              <a:rPr b="0" lang="en-US" sz="9600" spc="-1" strike="noStrike">
                <a:solidFill>
                  <a:srgbClr val="073e87"/>
                </a:solidFill>
                <a:latin typeface="標楷體"/>
              </a:rPr>
              <a:t>THE END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</a:rPr>
              <a:t>謝謝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BS10012 </a:t>
            </a: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個人資訊管理系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有效期限：</a:t>
            </a: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2014.1.08.~2017.1.07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標楷體"/>
              </a:rPr>
              <a:t>公司的認證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品質 是我們一貫的堅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專業 是我們服務的基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誠懇 是我們處事的態度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安全 是我們事業的保障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lvl="1" marL="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</a:rPr>
              <a:t>資訊安全政策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71560" y="242100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中華民國個人資料保護法及其相關法律法規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公司個人資料保護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保護受託客戶之資訊安全及遵守個人資料管理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      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對於資訊安全及個人資料蒐集、處理及利用，因執行業務所持有之任何個人資料，負有保密義務，非經公司同意，不得以任何方式，直接或間接向第三人透露或使其知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BS10012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保護要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個人資料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：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指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自然人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之姓名、出生年月日、身分證統一編號、護照號碼、特徵、指紋、婚姻、家庭、教育、職業、病歷、醫療、基因、性生活、健康檢查、犯罪前科、聯絡方式、財務情況、社會活動及其他得以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直接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間接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方式識別該個人之資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依法公告、公開或應刊登公報的法人資料，不受個資法規範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例如：公司統一編號、營業處所、負責人姓名等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名詞定義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新細明體"/>
              </a:rPr>
              <a:t>蒐集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：指以任何方式取得個人資料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處理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為建立或利用個人資料檔案所為資料之記錄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、輸入、儲存、編輯、更正、複製、檢索、刪除、輸出、連結或內部傳送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利用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將蒐集之個人資料為處理以外之使用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個人資料 名詞定義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第八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</a:rPr>
              <a:t>非公務機關</a:t>
            </a: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依第十五條或第十九條規定向當事人蒐集個人資料時，應明確告知當事人下列事項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資法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-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告知義務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9" name="圖片 3" descr=""/>
          <p:cNvPicPr/>
          <p:nvPr/>
        </p:nvPicPr>
        <p:blipFill>
          <a:blip r:embed="rId1"/>
          <a:stretch/>
        </p:blipFill>
        <p:spPr>
          <a:xfrm>
            <a:off x="1004760" y="3068640"/>
            <a:ext cx="7383600" cy="36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71560" y="191628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依據個人資料管理之要求，公司蒐集個人資料之特定目的為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02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人事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90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消費者、客戶管理與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07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採購與供應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1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場所進出安全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5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與資料庫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81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其他經營合於營業登記項目或組織章程所定之業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</a:rPr>
              <a:t>個人資料 特定目的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本公司蒐集個人資料之類別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識別個人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住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工作地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住家電話號碼、行動電話、即時通帳號、相片、指紋</a:t>
            </a: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…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等其他任何可辨識資料本人者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2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辨識財務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金融機構帳戶之號碼與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信用卡或簽帳卡之號碼、個人之其他號碼或帳戶等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2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家庭其他成員之細節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5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學校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6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離職經過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8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信用評等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11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健康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 範圍及類別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5:38:07Z</dcterms:created>
  <dc:creator>User</dc:creator>
  <dc:description/>
  <dc:language>en-US</dc:language>
  <cp:lastModifiedBy>linda</cp:lastModifiedBy>
  <dcterms:modified xsi:type="dcterms:W3CDTF">2016-08-11T05:40:05Z</dcterms:modified>
  <cp:revision>16</cp:revision>
  <dc:subject/>
  <dc:title>104年第四季 教育訓練</dc:title>
</cp:coreProperties>
</file>