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124-8EEA-4BC5-9FDC-743DFFF6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1AF-74F1-43E0-AAE3-AA5BA420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9314A-F533-468F-878F-872140A5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F97E3-C0CB-4FE2-955E-DF7210C5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34905-AFD6-49DE-B4B7-C7958D37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7642E-D221-4DA4-93C4-42EBA7BE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49314-A15D-4A24-96B5-8F3AD2BA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645A9-1797-4872-9DA4-5F3870C6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E6AAE-4BBA-4E94-9B81-507073D8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37B04-365D-4B3A-B381-3413F4E7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3CF11-A233-47ED-8EFB-97878588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4E191-47E5-4C50-BB3F-92902FD7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91C-7ED9-48D3-93E1-76709CBE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BD097-CD01-4BBF-BB62-1ADC1D66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37600-AE08-4D47-B708-119EF8CB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E13FA-8CE3-459B-98C7-A98FB013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CB069-C683-44C8-BDEB-C16B25F9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3EE27-C941-4FFB-84A4-5EA57FA6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F76B1-E03F-40F7-AF18-8F2D934E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1E77C-0AD1-4A8A-835B-D3BC8889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07616-9472-479D-91D8-E95C426C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90E87-505D-43C4-864A-DDD6CB54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9EC1C-CC59-4D27-8CDE-213274CD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55F-BBFF-417B-8BE4-4780D650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40966-A68B-40AD-BDF1-7489F913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1590F-2994-4A20-ADB0-A0645290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693C1-2885-4412-A6B6-C4E2519D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1621E-12BA-4564-94D4-6AC1F476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54011-255F-4941-8520-55185DD5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55719-7E2A-4D00-A33F-20456F99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A9840-E0EB-4EB5-8C73-B781D71E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64461-A1C3-4B29-AC5E-3E5EF505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790F2-E8EB-46C0-BBBC-D77550B6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1A7FD-392C-479A-B713-BE696AA8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3C0A-C0C3-41F6-9F3F-6E05CCD6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FFA97-0E1C-42D9-9701-996660E2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EF808-82D0-4FF2-B580-FE58505B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25A6C-BD31-488D-AF24-FDFB67A4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82A9F-A82D-4B5D-8852-987C2CA8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5BF08-6F0B-4C02-AFD2-2BE5F82D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06A3F-21C1-42F2-8E6E-BEEFB382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7E6B5-F486-4661-8FE5-9E6953DB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11BCB-8D16-4375-A40B-FD7DB045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EB9CA-0F10-4AE2-A6C2-824978B5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D4D2E-F816-4D58-8386-92976910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33F9-E81C-4529-A423-C8D530F3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308C6-9233-44AD-BF62-AB0CCAD1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E45D0-A4FD-4155-97BB-F492EA71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758B0-1946-453F-85A4-067F2DAA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41B64-CAE1-49A4-AF6E-7DBC93E5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A0FB8-99ED-453E-8137-000AB95C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D5D6-E7E1-4F2D-B8A4-45E5DAF4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7319-73B6-4892-8A1B-3B971663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8F69-136B-4267-BFD1-9581112E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6D2F-D998-44D8-99CE-732BB85B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437D-CF88-428A-8F5A-23621CBE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E20-1268-48A9-A472-F0EA1E1D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C695-A647-4B0C-A4B4-ED16D7FE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2320-0B2F-4606-A8C0-0CDBE808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2B22-C311-4B83-AD19-F09ECDDE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485E-A89C-4055-B360-99AF1908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7A05-AF75-48D5-BFE7-D1FF4B2B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AD496-3648-49FB-A2F2-AAC98229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11A4F-E9F3-4105-99C2-7C4B0E85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8755D-5E52-4F7D-9FF7-BD6934AB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20651-9961-4DD8-B84A-B129A60A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6EB4C-4715-4845-84ED-7BD8A4EB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0C1-5FFC-453A-ACC2-B9EF7CAF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B6606-A26F-4C38-81B1-DC9CF885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18FC2-1D37-4480-97DF-71ED1E64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A625-1247-47B0-94C3-86DA3E62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AA4E0-B85C-4B65-8B36-1EEC4FAE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FF2A-9183-44CF-BF90-34BAA30C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9EA6-240B-48DD-9B5E-77D23B56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A3694-7D18-4923-80C2-78DF150C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E25E2-3383-4DC9-9978-CD25C3E5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1C765-C655-4469-A655-D2765E60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36741-DB08-4E9A-95E2-328056B9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CF1-3EF2-4DD5-A882-FAD776A4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3DD98-65E8-4A2A-B5A5-A344BCBD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49641-6A5E-4A68-846D-CB1D8E93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94BBB-C63B-4642-975F-CB100EA9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FC4D0-05C8-4D10-B962-06299064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0E83-9046-4FD5-A611-9EC540CD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81910-8559-49FF-A24D-00A13497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ACBD8-6DAF-4767-A5C6-5570EE48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D1AF2-3C93-4B11-BFFA-6385E9FC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97082-FC21-4354-AA2F-D1A438E1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845BD-EB05-4E93-B7EE-4D4257E5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0A0-CCC5-41B6-943A-BBD4AB1C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C30A7-665A-445C-A7CE-382F1EBC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A518B-C798-4F3C-B957-4D628689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7852A-F6DA-4FC8-88C9-4B794D36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E74C1-52A5-41E7-A747-720562C1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80F98-1A45-49A8-97C1-5061FABB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08160-0DD4-47C4-A2C9-EF18229E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30DA1-D053-4F2A-9533-1E1F0E2A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7524B-94F9-4158-8E0C-C88C3836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BC081-D7E1-49C0-9D73-2EF0A0B7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2BE51-E600-4EE7-A3FB-359BAF98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A22-41F4-44D7-AC10-71BB02D3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DDAD0-CDE3-453A-8B3F-E5926C4A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E4DBD-AC2E-407E-8E1A-76A06333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09318-F82D-4CEB-9F0A-C3982DF4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44E49-E4DA-4E46-898D-004C9B9F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7C26B-09D3-4514-AC0D-7CD6232B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AE3A2-2F08-402A-869F-4568556D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EAF27-5FB4-49F1-96D7-EAA25B1B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9F674-D2EA-4AD1-A94A-33227C4C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1383B-FDDC-4DBC-8F43-7D010052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DCC0D-7D32-482E-BA70-9AA96E26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977-F71D-4FB1-AE6D-0DFF9C29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30EE6-2B0C-4D27-A10E-25113B85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825D1-8CD2-4325-B40B-EC9C892D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5EEA2-F864-44C0-85CF-FDA72A08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8EF3A-1CA3-44D8-90FF-426BEA02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4800D-427A-42E2-BECA-B0CE357E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88600-C0BF-4172-BEC7-AF9F69E8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0F072-B009-4AA4-AC75-3CE19926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ECAA6-BA43-4330-9CBD-4008E32F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2D0D3-E374-4F6F-801F-A272665C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CF171-24AE-4179-96F6-91C40284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42A-0C2F-4487-A248-3172705E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53ADC-B2E8-442F-B2EF-6CB0A2C5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9A7E7-5217-41D3-B31F-4C5CB847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032BC-FB7A-4A71-9EF4-F5434741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E6B84-5D4D-40E7-B0EA-B271D445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1EB3B-61D3-45BC-8D3B-10858082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D798A-19D4-4FA6-92DB-08F3F3C5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71CE1-5637-40E0-9481-6EFC7338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4C716-4CB9-4CB4-86C3-835F8D1D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66661-80BD-46CF-AC99-83D2DA00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C92E7-08CE-4E74-BCD6-F6368F18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A97-F9CF-4B44-827A-8FFC6414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6F0FA-9BF2-41A3-BB1A-1C222716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3DA2E-29D6-4041-B786-ACBECBF2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F1959-3F86-4AF1-8D5F-BA81C15E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2F5A6-B53C-4CEC-B65B-C5CD6BAA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91B86-C3F6-4EF8-B3E9-7F1E1623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6E5A9-E109-454D-886D-B0031447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64842-AB51-45FC-93BB-01C4CF07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D18C8-2F56-40E1-B153-A2289855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2FD1D-7CAF-481C-B353-971D9163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2D5E7-EF5C-425B-9614-2526CD6B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6E25-9FD8-46D0-9E22-D9100769252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3B7C-3A72-47F4-96F9-B4D6298E0A0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AAED-90C5-4A6E-8B74-704FDD70DFD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3E98-9E8E-4376-A7E1-AA0B736691B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B6E7-AC6A-451E-8864-B6CB0353F54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4B85-EEB1-4F64-904E-FCD50170A16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62DA-2EB1-451F-9DB9-021265C7293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A45B-44B7-4C30-A1CC-B1DA68BA008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7AFC-43CB-4870-A6F9-EA9F467D156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6C3E-060D-47F3-A145-0F1384DD00E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C25D-5BC8-47F9-AB95-96BCAB9D4FB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2CC3-B292-487F-B94C-FF5C581ED3A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105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年第二次 教育訓練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標楷體"/>
              </a:rPr>
              <a:t>簡報者：張豔玥     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</a:rPr>
              <a:t>105.08.23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8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、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9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公務機關或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違反個資法規定，致個資遭不法蒐集、處理、利用或其他侵害當事人權利者，負損害賠償責任。但損害因天災、事變或其他不可抗力所致者，不在此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如被害人不易或不能證明其實際損害額，以每人每一事件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500~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計算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同一原因事實造成多人權利受侵害，經當事人求償，最高以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億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為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公務機關或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能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證明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其無故意或過失者，不在此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罰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4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、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42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意圖營利違法蒐集、處理、利用或國際傳遞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 國際傳遞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限制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)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，處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年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以下有期徒刑，得併科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0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以下罰金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意圖營利而對</a:t>
            </a:r>
            <a:r>
              <a:rPr b="1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檔案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進行非法變更、刪除或以其他非法方法，致妨害</a:t>
            </a:r>
            <a:r>
              <a:rPr b="1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檔案之正確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而足生損害他人者，處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5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年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以下有期徒刑、拘役或科、或併科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100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以下罰金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舉證：軌跡紀錄、書面同意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罰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為國際傳輸個人資料，而有下列情形之一者，中央目的事業主管機關得限制之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一、涉及國家重大利益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二、國際條約或協定有特別規定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三、接受國對於個人資料之保護未有完善之法規，致有損當事人權益之虞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四、以迂迴方法向第三國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地區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)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傳輸個人資料規避本法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國際傳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73e87"/>
                </a:solidFill>
                <a:latin typeface="標楷體"/>
              </a:rPr>
              <a:t>   </a:t>
            </a:r>
            <a:r>
              <a:rPr b="0" lang="en-US" sz="9600" spc="-1" strike="noStrike">
                <a:solidFill>
                  <a:srgbClr val="073e87"/>
                </a:solidFill>
                <a:latin typeface="標楷體"/>
              </a:rPr>
              <a:t>THE END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ff"/>
                </a:solidFill>
                <a:latin typeface="標楷體"/>
              </a:rPr>
              <a:t>謝謝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2e65"/>
                </a:solidFill>
                <a:latin typeface="標楷體"/>
              </a:rPr>
              <a:t>BS10012 </a:t>
            </a:r>
            <a:r>
              <a:rPr b="0" lang="zh-TW" sz="3200" spc="-1" strike="noStrike">
                <a:solidFill>
                  <a:srgbClr val="052e65"/>
                </a:solidFill>
                <a:latin typeface="標楷體"/>
              </a:rPr>
              <a:t>個人資訊管理系統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2e65"/>
                </a:solidFill>
                <a:latin typeface="標楷體"/>
              </a:rPr>
              <a:t>有效期限：</a:t>
            </a:r>
            <a:r>
              <a:rPr b="0" lang="en-US" sz="3200" spc="-1" strike="noStrike">
                <a:solidFill>
                  <a:srgbClr val="052e65"/>
                </a:solidFill>
                <a:latin typeface="標楷體"/>
              </a:rPr>
              <a:t>2014.1.08.~2017.1.07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ff"/>
                </a:solidFill>
                <a:latin typeface="標楷體"/>
              </a:rPr>
              <a:t>公司的認證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品質 是我們一貫的堅持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專業 是我們服務的基礎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誠懇 是我們處事的態度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安全 是我們事業的保障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lvl="1" marL="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</a:rPr>
              <a:t>資訊安全政策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871560" y="2421000"/>
            <a:ext cx="7408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遵守中華民國個人資料保護法及其相關法律法規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遵守公司個人資料保護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保護受託客戶之資訊安全及遵守個人資料管理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      </a:t>
            </a: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對於資訊安全及個人資料蒐集、處理及利用，因執行業務所持有之任何個人資料，負有保密義務，非經公司同意，不得以任何方式，直接或間接向第三人透露或使其知悉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BS10012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人資料保護要求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個人資料</a:t>
            </a: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：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指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自然人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之姓名、出生年月日、身分證統一編號、護照號碼、特徵、指紋、婚姻、家庭、教育、職業、病歷、醫療、基因、性生活、健康檢查、犯罪前科、聯絡方式、財務情況、社會活動及其他得以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直接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或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間接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方式識別該個人之資料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依法公告、公開或應刊登公報的法人資料，不受個資法規範</a:t>
            </a:r>
            <a:r>
              <a:rPr b="0" lang="en-US" sz="2800" spc="-1" strike="noStrike">
                <a:solidFill>
                  <a:srgbClr val="052e65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例如：公司統一編號、營業處所、負責人姓名等</a:t>
            </a:r>
            <a:r>
              <a:rPr b="0" lang="en-US" sz="2800" spc="-1" strike="noStrike">
                <a:solidFill>
                  <a:srgbClr val="052e65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名詞定義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新細明體"/>
              </a:rPr>
              <a:t>蒐集</a:t>
            </a:r>
            <a:r>
              <a:rPr b="0" lang="zh-TW" sz="2400" spc="-1" strike="noStrike">
                <a:solidFill>
                  <a:srgbClr val="073e87"/>
                </a:solidFill>
                <a:latin typeface="新細明體"/>
              </a:rPr>
              <a:t>：指以任何方式取得個人資料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andara"/>
              </a:rPr>
              <a:t>處理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：指為建立或利用個人資料檔案所為資料之記錄</a:t>
            </a:r>
            <a:r>
              <a:rPr b="0" lang="zh-TW" sz="2400" spc="-1" strike="noStrike">
                <a:solidFill>
                  <a:srgbClr val="073e87"/>
                </a:solidFill>
                <a:latin typeface="新細明體"/>
              </a:rPr>
              <a:t>、輸入、儲存、編輯、更正、複製、檢索、刪除、輸出、連結或內部傳送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andara"/>
              </a:rPr>
              <a:t>利用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：指將蒐集之個人資料為處理以外之使用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個人資料 名詞定義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2e65"/>
                </a:solidFill>
                <a:latin typeface="標楷體"/>
              </a:rPr>
              <a:t>第八條：公務機關或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</a:rPr>
              <a:t>非公務機關</a:t>
            </a:r>
            <a:r>
              <a:rPr b="0" lang="zh-TW" sz="2400" spc="-1" strike="noStrike">
                <a:solidFill>
                  <a:srgbClr val="052e65"/>
                </a:solidFill>
                <a:latin typeface="標楷體"/>
              </a:rPr>
              <a:t>依第十五條或第十九條規定向當事人蒐集個人資料時，應明確告知當事人下列事項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資法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-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告知義務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89" name="圖片 3" descr=""/>
          <p:cNvPicPr/>
          <p:nvPr/>
        </p:nvPicPr>
        <p:blipFill>
          <a:blip r:embed="rId1"/>
          <a:stretch/>
        </p:blipFill>
        <p:spPr>
          <a:xfrm>
            <a:off x="1004760" y="3068640"/>
            <a:ext cx="7383600" cy="3673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871560" y="1916280"/>
            <a:ext cx="7408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依據個人資料管理之要求，公司蒐集個人資料之特定目的為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002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人事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090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消費者、客戶管理與服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07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採購與供應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16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場所進出安全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35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資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通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訊服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36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資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通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訊與資料庫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81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其他經營合於營業登記項目或組織章程所定之業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</a:rPr>
              <a:t>個人資料 特定目的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本公司蒐集個人資料之類別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0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識別個人者：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姓名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住址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工作地址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住家電話號碼、行動電話、即時通帳號、相片、指紋</a:t>
            </a: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…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等其他任何可辨識資料本人者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02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辨識財務者：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金融機構帳戶之號碼與姓名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信用卡或簽帳卡之號碼、個人之其他號碼或帳戶等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2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家庭其他成員之細節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5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學校紀錄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6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離職經過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8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信用評等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11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健康紀錄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人資料 範圍及類別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5:38:07Z</dcterms:created>
  <dc:creator>User</dc:creator>
  <dc:description/>
  <dc:language>en-US</dc:language>
  <cp:lastModifiedBy>linda</cp:lastModifiedBy>
  <dcterms:modified xsi:type="dcterms:W3CDTF">2016-08-11T05:40:05Z</dcterms:modified>
  <cp:revision>16</cp:revision>
  <dc:subject/>
  <dc:title>104年第四季 教育訓練</dc:title>
</cp:coreProperties>
</file>