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8F5-96E9-4C0D-93D9-E5AE0E12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9D6-16F7-47E9-82DB-AB971C27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7DA5A-B3A0-4A86-867F-84B98528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4DB38-CDFF-4B1A-B674-60F4780B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F799A-A46A-4558-84F1-4F0D74B3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F24EB-BBFC-451B-A84C-864F0A75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A27CE-36BD-405A-BCD6-DE490186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4C689-EE34-4969-A5A4-95CF4A9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AEDBD-8109-4D2C-87DB-AA698F2F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6FDA0-6C6A-432E-92DC-AB72F629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0C323-4069-4475-BB9E-6412D1CC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A70F5-DE80-4A47-BE10-BB85F402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CAF-5C73-4CE5-96F7-74BB34AE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635FD-F66D-4DB2-8F25-D2018040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B5D7D-298B-424D-B24A-642FE097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8D79B-67BD-4AB6-9D9E-DA411463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9A68E-A08E-4287-A746-D941CD37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852D2-D8BC-44FE-8AE5-0FF53070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E5033-EC54-44EA-A09C-E561669F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AAFF1-5E63-49D0-8E7D-6DA00387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D101D-AA3A-49E6-BAA1-A6D088C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FF557-D418-4A2D-AE58-C70157C4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AF52A-C7E7-4D6B-B040-97BC1049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CD9-A192-4436-8B55-D896ACCE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A461E-83AA-4F7E-8766-6FB82CBD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9E716-EE1A-4DAD-9221-16BBC946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F3220-8609-4FD4-98AB-AA3A1EBC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F796C-79EF-4B2F-B0A3-37742F93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BBCB1-D008-4657-8BAA-34C38B23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88590-92FB-487B-8B90-7AF6D18E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2DB40-D3A3-4538-BC9D-AF748D75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7E307-2BF2-4B46-8B70-CCD4E1E8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5AEA2-4229-4A31-A500-EF34A656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BDBCC-5716-4B8C-B940-FEDDADC8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DE69-0B37-49FA-9C2F-1CCA918D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54C50-D6AF-4E3F-8023-EF782BDF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651E3-2B81-422F-B5B6-5459B021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B42CE-43DB-40D7-9351-E512E26B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1C418-0318-476F-A086-2C6A4652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23A27-B0EA-4D09-B565-332093C2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5554D-A981-40DF-8996-0EF754D0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C0094-EF67-4DEE-B332-4D921D91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D8D7D-D37F-486C-9D76-E7DAB55E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8C822-F31C-4E8E-ADEF-24A91C1E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F64A0-FF7D-4636-A9E0-E52578CA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3A61-DFD2-46AB-8044-FA3B72DA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6C128-32F5-4FDF-839F-714C9F96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1A324-CB8D-477C-B650-2D82C89D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BEAC0-BDDB-4BE3-9F54-EF1858CA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1861E-AF9B-4E7B-8417-81B3C375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6E157-3798-4DB8-A6A6-7ADA5CD3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3CAD-D766-430F-8DCB-2C9AD325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9BC3-701E-4068-9893-37A2A122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5636-6745-4782-A085-809B7E98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6A3E-ABA6-4D7C-82D5-66888FC0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6278-3F90-4507-8BF5-947955E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37B-A87D-44A7-BA74-6403A6B4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D35F-6E65-4C28-93B4-7DD389D4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2E0E-92D6-4C49-B315-ACA6358B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71B2-5C6B-4793-AE71-E53D046B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CC85-CB34-46F3-86E7-BEF1A064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F765-8CD2-474B-8B17-BAB0DD09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D9E0-5F6E-43CE-8F0E-8471E9FB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2FA3-530D-4846-9096-1433906E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108F9-701D-4C30-AA73-D0C6C6F3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543C5-8A71-49F9-808F-C58D84EE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407A-1507-4050-B08A-7B040A9C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A91-78E7-49F4-8148-1B328B2A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BD95-DB2E-4EBF-BF98-F28F1295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769A-B934-4612-92CF-93D27754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16A4-EB3B-4D9E-B803-4FE2DF05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046F-7C86-4B9C-B567-409FA2CD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442B-E14A-48AA-9044-71C81115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3334-C386-4FC4-86C7-37078DEC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AE302-B9D5-4794-87B1-25289713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1CCC-CAE3-4AE7-908B-3703E299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0EC95-11C7-499D-9729-7CEFF6A7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4D17-8240-489D-8D4A-C245C97B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093-1623-4EED-B2C6-60ECFBA1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86FCB-DE6E-49E4-9B7A-0EAF5DBE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8731-EE57-467C-9824-105BAAA8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FFCF8-D1C5-4FD7-86FD-716DFA05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40DA-DC20-495F-8B9C-0BA40500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0F13-A1ED-4479-82BA-2DCBBDCD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47C56-C31E-4477-9A3F-745C3D0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481C1-154E-4149-BD6F-B85869CC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95A29-8BE0-40CD-9435-120B64B4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95D22-2430-4EAB-9746-8821024C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C6712-304F-4E0A-8B2C-151DB909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4E0-A2BB-48E3-ADD5-5E6BA24D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BC6FD-0B69-49B7-AA34-77A21B35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F2BB0-59CE-4A16-BB98-259CB618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093F9-15DE-404C-8D76-4CCD1571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F10FD-6167-4E42-A476-3C212551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66E6A-BD83-4FCD-B023-BE29A41F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012BA-D811-4FF3-ACD4-863AC04F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5408D-DC89-465E-A847-1D162361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19D3-1A59-419F-91F8-9982A062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F9F9E-88DA-4CAD-981C-E8C8F1E2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ADED4-2950-4F5B-9DD5-85BE5145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408-83A7-4F4D-B2E6-82C74EBF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8E31D-0C91-45C0-94AD-4E278C26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311D1-87A8-46D9-A9A8-69A3B1BE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C9322-BD81-407B-ACF5-5D9D6815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3458E-112A-4F82-AD5E-4123D458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D8C79-EF78-4EF2-9691-9B55A44E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DC6A-FB88-482A-8AEB-AD99896C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CC2F9-C737-47B3-A54E-B9395331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8C36C-7A9D-4DED-A41B-79488B66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58C6-496B-4430-AB29-0C314EF2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3A113-7D4E-45BA-8BF1-654A1F6B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5AE-E163-4936-9E8C-961B6688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B7B45-8824-425C-95F4-AAC6F711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15997-5901-49D9-9D84-E679F9E6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25CDF-F014-4672-B35F-68CF2543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233F3-9D3E-4885-AF01-165A4D5D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50BD1-DE1B-4715-9E82-853E9D66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5AF64-6B56-40F8-80BB-CE0233ED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F5D89-378C-4E73-8A72-6B5FD27B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C6313-7D89-4E67-8293-2FEED230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1DE0D-E888-4521-BD50-F59BB600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5073F-995E-4C81-AD81-59F82A23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7F1-E2F1-41B0-B637-8B6FC523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09BAD-3DEB-4B62-9BF8-65A0CDC6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7F101-9921-4CB7-9D7D-224EAA37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9C8E8-372C-42FE-B68A-C53C5C8E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587BD-1C3F-43B8-ADEB-93FEC497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66036-C285-4CEB-AE0C-4D791752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52154-49E8-429C-9FBC-703668F2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5EBA0-93EB-41C5-97AA-8C8952E8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78E47-5A68-404D-8099-53D4CCE1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E40EC-E337-4F72-A4E5-0C1D97B3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B28AF-B421-4D3D-AD59-17AAE143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A43-6651-4CB0-AFEE-F058F86E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56EE4-1C04-41FA-BE6D-060F316D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0C5C5-AF28-4039-B108-0479DCF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A55C4-226F-483D-A52D-0BED4241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EFC09-295E-4B36-AA48-936FBCD5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08107-7699-4A63-B17B-A9DB9DB0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4357C-8BD7-4C13-8DCB-F9D50DF4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5FC21-FFB1-400A-879E-63EEFA95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C4753-FD6E-459D-BC4D-9EA89982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A576B-F872-46F0-AFBF-954D0A1A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A3706-3DF7-495B-9EEB-086B41C0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E010-E20D-4E0E-A45A-8DA80963317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1126-B0A0-4D3E-88E8-6C7E7279254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062B-7063-439C-9C6C-08BC4396EC9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4618-663F-4CEB-96D6-46F1DE217E5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85E9-18C6-4176-8A64-2E6A3D31562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9307-3F7F-477A-8C38-F1B932BD887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EA15-022D-4EBC-8C17-E9217880374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2EC8-2A4D-423F-B754-B559C96F542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4C98-2A33-476C-A820-BE9F7D7EED1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5655-BACC-4F74-8CAC-C0227528EC7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0DFF-6D14-4237-BCD0-12889F638F4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A55C-CF05-4476-B306-53386ABAD3D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105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年第二次 教育訓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</a:rPr>
              <a:t>簡報者：張豔玥     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</a:rPr>
              <a:t>105.08.23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8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9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違反個資法規定，致個資遭不法蒐集、處理、利用或其他侵害當事人權利者，負損害賠償責任。但損害因天災、事變或其他不可抗力所致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如被害人不易或不能證明其實際損害額，以每人每一事件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00~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計算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同一原因事實造成多人權利受侵害，經當事人求償，最高以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億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為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能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證明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其無故意或過失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2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意圖營利違法蒐集、處理、利用或國際傳遞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 國際傳遞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限制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，得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意圖營利而對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進行非法變更、刪除或以其他非法方法，致妨害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之正確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而足生損害他人者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、拘役或科、或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10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舉證：軌跡紀錄、書面同意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為國際傳輸個人資料，而有下列情形之一者，中央目的事業主管機關得限制之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一、涉及國家重大利益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二、國際條約或協定有特別規定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三、接受國對於個人資料之保護未有完善之法規，致有損當事人權益之虞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四、以迂迴方法向第三國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地區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傳輸個人資料規避本法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國際傳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73e87"/>
                </a:solidFill>
                <a:latin typeface="標楷體"/>
              </a:rPr>
              <a:t>   </a:t>
            </a:r>
            <a:r>
              <a:rPr b="0" lang="en-US" sz="9600" spc="-1" strike="noStrike">
                <a:solidFill>
                  <a:srgbClr val="073e87"/>
                </a:solidFill>
                <a:latin typeface="標楷體"/>
              </a:rPr>
              <a:t>THE END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</a:rPr>
              <a:t>謝謝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BS10012 </a:t>
            </a: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個人資訊管理系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有效期限：</a:t>
            </a: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2014.1.08.~2017.1.07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標楷體"/>
              </a:rPr>
              <a:t>公司的認證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品質 是我們一貫的堅持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專業 是我們服務的基礎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誠懇 是我們處事的態度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安全 是我們事業的保障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lvl="1" marL="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</a:rPr>
              <a:t>資訊安全政策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71560" y="2421000"/>
            <a:ext cx="740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中華民國個人資料保護法及其相關法律法規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公司個人資料保護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保護受託客戶之資訊安全及遵守個人資料管理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      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對於資訊安全及個人資料蒐集、處理及利用，因執行業務所持有之任何個人資料，負有保密義務，非經公司同意，不得以任何方式，直接或間接向第三人透露或使其知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BS10012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保護要求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個人資料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：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指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自然人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之姓名、出生年月日、身分證統一編號、護照號碼、特徵、指紋、婚姻、家庭、教育、職業、病歷、醫療、基因、性生活、健康檢查、犯罪前科、聯絡方式、財務情況、社會活動及其他得以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直接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或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間接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方式識別該個人之資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依法公告、公開或應刊登公報的法人資料，不受個資法規範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例如：公司統一編號、營業處所、負責人姓名等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名詞定義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新細明體"/>
              </a:rPr>
              <a:t>蒐集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：指以任何方式取得個人資料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處理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為建立或利用個人資料檔案所為資料之記錄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、輸入、儲存、編輯、更正、複製、檢索、刪除、輸出、連結或內部傳送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利用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將蒐集之個人資料為處理以外之使用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個人資料 名詞定義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第八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</a:rPr>
              <a:t>非公務機關</a:t>
            </a: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依第十五條或第十九條規定向當事人蒐集個人資料時，應明確告知當事人下列事項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資法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-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告知義務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9" name="圖片 3" descr=""/>
          <p:cNvPicPr/>
          <p:nvPr/>
        </p:nvPicPr>
        <p:blipFill>
          <a:blip r:embed="rId1"/>
          <a:stretch/>
        </p:blipFill>
        <p:spPr>
          <a:xfrm>
            <a:off x="1004760" y="3068640"/>
            <a:ext cx="7383600" cy="36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871560" y="1916280"/>
            <a:ext cx="7408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依據個人資料管理之要求，公司蒐集個人資料之特定目的為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02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人事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90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消費者、客戶管理與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07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採購與供應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1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場所進出安全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5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與資料庫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81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其他經營合於營業登記項目或組織章程所定之業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</a:rPr>
              <a:t>個人資料 特定目的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本公司蒐集個人資料之類別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識別個人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住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工作地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住家電話號碼、行動電話、即時通帳號、相片、指紋</a:t>
            </a: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…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等其他任何可辨識資料本人者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2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辨識財務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金融機構帳戶之號碼與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信用卡或簽帳卡之號碼、個人之其他號碼或帳戶等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2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家庭其他成員之細節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5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學校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6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離職經過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8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信用評等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11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健康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 範圍及類別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5:38:07Z</dcterms:created>
  <dc:creator>User</dc:creator>
  <dc:description/>
  <dc:language>en-US</dc:language>
  <cp:lastModifiedBy>linda</cp:lastModifiedBy>
  <dcterms:modified xsi:type="dcterms:W3CDTF">2016-08-11T05:40:05Z</dcterms:modified>
  <cp:revision>16</cp:revision>
  <dc:subject/>
  <dc:title>104年第四季 教育訓練</dc:title>
</cp:coreProperties>
</file>