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3F4-7AF0-4304-A0AE-0CAAC0BA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E79-FBBD-4258-A832-AEBF9601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7BC88-5F87-44A0-A75B-2FAB948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C4A0F-36B9-40BE-93CE-FF20D8D3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B9FC8-2636-4EB2-A54F-6B04A63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D9E19-8A06-4CB5-BBE4-E077317F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7FB3C-D863-48E6-94CD-BE18BC6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23C39-BF17-4534-81BB-6108F12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836E1-9F2C-41A9-9160-91D5F3E2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78819-4BBD-425A-AA08-87BBBB91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4C806-57B8-4DD1-BFB3-29861AB2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8DAE5-58DA-4D94-9D7F-08C15698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29D-CED6-4F38-B432-3248232F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F5CB7-6A26-4AF9-A76A-E3BE563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53744-4341-4085-80C3-5167FDAC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147F3-94F1-4E57-B961-38144207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52AC6-69B8-4CEC-9E94-B5D6B73D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4DF35-8B0A-4311-8519-64738A6A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CBB21-1A6E-4D91-8556-B33D62F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3B85E-0B2A-48AA-BE44-C3813AF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D9F8B-3E81-4FD0-B634-760AF10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1185C-5908-43AE-800D-45C078A5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EC2FF-41EF-4329-B148-B3EA7166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FC6-A640-45B9-AA6D-CC7C8742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BCDE2-851D-4B44-9A69-B15CA17C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61A5E-8458-4365-8412-EDAC298E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98CE9-18B0-4776-A655-87846FE3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3C130-E675-416A-8E2D-20E0333F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F8492-CA7F-4AFC-9F06-07F4FC59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FF004-90E7-4930-B40D-5DABB47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BF886-FE56-4DD8-9A1F-1E577171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33C8F-A4C5-4A0B-BABB-65FA8CA7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1CC17-A0E8-4BB6-8B07-467CB467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1A35E-A8A9-4B8E-BE66-668B7D7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2286-F84A-48DA-99DE-3F4D4F8F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79F4F-2F9C-4BFB-8606-4F47D76F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F16C1-C7CE-4733-95F0-42D5BC3F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F3D29-DFE3-4976-9D46-660F65F2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01A8F-11C6-4495-A146-58E7AB12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4061E-3156-4C77-9C0B-6D899738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FA5B4-581F-4AC1-9CD4-C16768EC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0F728-6045-4CEA-97AB-FFBCE12D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89DA1-2EB5-4603-B5D6-D8B1044E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985D0-9F09-4B1D-8DA3-0390DD5C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8C8DB-973D-4E08-9281-75CA901F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643B-BAE7-419B-AD94-81F08485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2CF73-ADC0-4D80-BBE4-B5357F3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98C8C-7D3F-44F3-B3E2-4E3595F8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36AFF-6EF5-4202-B9C1-F05662BB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9BBFE-3938-478E-98BD-07325860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E7D9F-EF4A-4E98-BDB2-7A3D52DD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D35A-3878-4D51-9C76-8FBE6591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14EA-D924-4470-AE57-EEB35190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DA3E-4D6F-4F8D-8034-D413B00E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8733-3DA0-4CDC-B53E-07107D70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A1E1-A978-4818-9D94-36021D5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2D0-5B8D-4BF5-9312-F56DDE95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9E86-2AC7-49AD-9428-6EDAB5F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0F3A-323E-4CAF-A2A5-68CF0E90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5940-CBD7-49C9-A880-A272C4DD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BBD7-2DCB-4730-8EB3-A36385F6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DB0F-9E14-4991-8BB8-609394E2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D159-9537-4A92-A62A-8CDFF5C1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4132-AF6D-49FD-AC61-5E882D5B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6E61-720A-4CC7-B6F8-0ED4DA7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668F-8188-428D-BCCA-4B0DB5A8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B609-D9F8-42EA-BEFE-27766BEB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7BB-91C8-4D52-BF04-6CB3E6C8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5A68-03A4-4BF1-B48A-FF5DF4B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8EF6-4392-4719-B27C-23733C6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A7CA-6CE0-47A2-9843-9DF1B69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E8D1-6C7F-49CC-A22D-77191EC5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9559-6E06-49BB-A63D-FD0E7BF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E9C1-FE5B-4736-BC16-8F482C0C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A9EA-B342-434D-B3AB-D448DFBE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CC415-1A3E-44C5-9D5B-54703DCF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4AE7-D836-4AD0-9E91-24BFF929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7C83-EAF4-4EE0-95D9-28BCDCA3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005-622E-463A-96CA-8ADDA5A7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7B59-0C6D-49E2-BDC5-69EA876F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3927-8F07-45A3-BF04-55215C5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8A80A-4EB1-4701-9008-5BC4799F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3FF07-67AD-48D7-801E-09196CEF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D741-8052-4404-965C-72DCCA9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B50A-4F88-4F0D-B34B-E8E62FB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C7C7-5852-4F25-B6B0-5B933CCB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EC22-9515-421B-AEB6-1E95A98A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6D36-20DC-47B7-AF10-38A2BDFE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B584-EB2A-434F-A1C4-91CA51B2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071-E889-45BD-BAFE-732B3A0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B243D-0C31-4D2F-AA37-6FCCE5B9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F26EC-BF95-473E-BF3C-A89D8FB3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266B6-851B-41DB-BF88-4B8C92A4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D4F4-A7A8-4FBB-A510-94AA4AF4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66D9-066D-420E-AA97-05BC5B3F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8B6FF-4703-4EBA-AED0-9236380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E43F-C09F-4DD2-8073-3FF3E4D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D942E-D12F-4BC3-9C5E-A5AE23D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023C-9459-434D-91D9-EE16249A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AB69-A329-4B34-8A49-E3761CEA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3A9-503D-4DD0-9C87-15C5A27B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576F-5F59-4614-82B3-250CD4D8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87BC1-A840-468F-99BE-2BFECB5E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885F-D1A1-434E-B9EF-9E650D81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5B43D-4F11-4DBA-8E57-9FC192F4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C4496-CFE4-49E8-8394-E293D508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819F-FBB7-4487-89B5-D03819F3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B6A6F-FDED-464F-9C69-E883040A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BEAA-91C0-4B19-B3B1-D63FFCC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D44F0-7B2A-4D56-AB95-0D497DE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7D9D-2528-4D44-B0C0-D3CC980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B5B-4F15-4EA2-BA04-8AC11CC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50928-D551-49A5-9B01-63DF2FD9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A734-B43C-492A-B46B-E4ECCAC1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7F15D-9397-4290-A788-E9F75BB3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9EB1-4991-48B3-98A1-96CE4F3A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F4CF-D772-4B5C-A1DA-7FAC6F12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9D6F4-6C1E-4085-B316-82444A3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BFE00-277C-4E81-9CF5-61E0DF6F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1123-1364-44D9-8726-FEC1A398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63D76-9805-400A-999B-23160983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AA90-C7B7-4A08-AAFB-E643C7EE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EF6-9DC1-4FAF-AF7E-CD4B3FCB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8839F-FE5D-4848-A989-31BB5BA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CD37-CA18-478F-BAC5-DF593F4A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120BD-F954-4160-9AB1-E5C15342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1D928-3186-4EF3-B7F1-E03121EE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CCF7-62BD-49B0-9818-9357BC62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9CD6C-31AE-44EE-B24E-383B6CBE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963EC-0F34-437A-8B35-09D8BBAE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885D-7C5E-4CA7-907C-5D53ED53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A0BBA-6A2A-4792-A7FD-12052541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AE5E5-EEA9-454A-9918-2419C852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B67-D5F0-4902-A4A1-E749F48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8F088-D6EC-4DA6-BA2E-65301F6D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BD7F-AB0B-43E0-AA5A-34712AE2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587E-5F36-4905-B2FB-4F3CC537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73133-EC24-4832-9D72-EA45E02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B9249-DA2C-4924-A2D4-76EABE42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9BBE2-9123-4388-9DAF-CE0D82D5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86838-9129-4CA6-B249-2F295BA0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69D27-6A1B-4903-B66E-22518594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71E47-25B5-47BA-8521-A087571B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0EA3F-66E4-4717-B1C4-CD7FFFAF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5A96-E82B-4EF7-BF7F-F9D432DFC15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F62-8984-413B-9F52-08CA0D6C7A0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495-BC57-4C85-8ACE-45356FC4437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42D6-0780-4E5B-B573-82A6B881126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9128-D139-4E26-88D6-5600C82F327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A503-6D44-40E1-813B-F452689A043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60A9-AB00-4488-B153-43247BF9FC2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1D6A-8C5C-41FA-B4E5-504B5158E64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F351-C5EB-4C72-856A-016FF91900E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229-F189-44A8-BDEE-186EACD47DC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4C10-EBC4-4A29-B75B-6BC824B1373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7BF5-BA56-42A1-962F-8C0C1D0DFAB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105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年第二次 教育訓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</a:rPr>
              <a:t>簡報者：張豔玥     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</a:rPr>
              <a:t>105.08.2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8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9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違反個資法規定，致個資遭不法蒐集、處理、利用或其他侵害當事人權利者，負損害賠償責任。但損害因天災、事變或其他不可抗力所致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如被害人不易或不能證明其實際損害額，以每人每一事件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00~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計算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同一原因事實造成多人權利受侵害，經當事人求償，最高以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億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為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能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證明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其無故意或過失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2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意圖營利違法蒐集、處理、利用或國際傳遞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 國際傳遞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限制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，得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意圖營利而對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進行非法變更、刪除或以其他非法方法，致妨害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之正確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而足生損害他人者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、拘役或科、或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10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舉證：軌跡紀錄、書面同意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為國際傳輸個人資料，而有下列情形之一者，中央目的事業主管機關得限制之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一、涉及國家重大利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二、國際條約或協定有特別規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三、接受國對於個人資料之保護未有完善之法規，致有損當事人權益之虞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四、以迂迴方法向第三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地區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傳輸個人資料規避本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國際傳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73e87"/>
                </a:solidFill>
                <a:latin typeface="標楷體"/>
              </a:rPr>
              <a:t>   </a:t>
            </a:r>
            <a:r>
              <a:rPr b="0" lang="en-US" sz="9600" spc="-1" strike="noStrike">
                <a:solidFill>
                  <a:srgbClr val="073e87"/>
                </a:solidFill>
                <a:latin typeface="標楷體"/>
              </a:rPr>
              <a:t>THE END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</a:rPr>
              <a:t>謝謝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BS10012 </a:t>
            </a: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個人資訊管理系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有效期限：</a:t>
            </a: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2014.1.08.~2017.1.07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標楷體"/>
              </a:rPr>
              <a:t>公司的認證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品質 是我們一貫的堅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專業 是我們服務的基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誠懇 是我們處事的態度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安全 是我們事業的保障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lvl="1" marL="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</a:rPr>
              <a:t>資訊安全政策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71560" y="242100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中華民國個人資料保護法及其相關法律法規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公司個人資料保護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保護受託客戶之資訊安全及遵守個人資料管理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對於資訊安全及個人資料蒐集、處理及利用，因執行業務所持有之任何個人資料，負有保密義務，非經公司同意，不得以任何方式，直接或間接向第三人透露或使其知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BS10012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保護要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個人資料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：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指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自然人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之姓名、出生年月日、身分證統一編號、護照號碼、特徵、指紋、婚姻、家庭、教育、職業、病歷、醫療、基因、性生活、健康檢查、犯罪前科、聯絡方式、財務情況、社會活動及其他得以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直接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間接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方式識別該個人之資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依法公告、公開或應刊登公報的法人資料，不受個資法規範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例如：公司統一編號、營業處所、負責人姓名等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名詞定義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新細明體"/>
              </a:rPr>
              <a:t>蒐集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：指以任何方式取得個人資料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處理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為建立或利用個人資料檔案所為資料之記錄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、輸入、儲存、編輯、更正、複製、檢索、刪除、輸出、連結或內部傳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利用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將蒐集之個人資料為處理以外之使用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個人資料 名詞定義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第八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</a:rPr>
              <a:t>非公務機關</a:t>
            </a: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依第十五條或第十九條規定向當事人蒐集個人資料時，應明確告知當事人下列事項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資法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告知義務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圖片 3" descr=""/>
          <p:cNvPicPr/>
          <p:nvPr/>
        </p:nvPicPr>
        <p:blipFill>
          <a:blip r:embed="rId1"/>
          <a:stretch/>
        </p:blipFill>
        <p:spPr>
          <a:xfrm>
            <a:off x="1004760" y="3068640"/>
            <a:ext cx="7383600" cy="36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71560" y="191628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依據個人資料管理之要求，公司蒐集個人資料之特定目的為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02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人事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90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消費者、客戶管理與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07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採購與供應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1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場所進出安全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5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與資料庫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81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其他經營合於營業登記項目或組織章程所定之業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</a:rPr>
              <a:t>個人資料 特定目的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本公司蒐集個人資料之類別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識別個人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住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工作地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住家電話號碼、行動電話、即時通帳號、相片、指紋</a:t>
            </a: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…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等其他任何可辨識資料本人者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2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辨識財務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金融機構帳戶之號碼與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信用卡或簽帳卡之號碼、個人之其他號碼或帳戶等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2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家庭其他成員之細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5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學校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6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離職經過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8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信用評等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11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健康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 範圍及類別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5:38:07Z</dcterms:created>
  <dc:creator>User</dc:creator>
  <dc:description/>
  <dc:language>en-US</dc:language>
  <cp:lastModifiedBy>linda</cp:lastModifiedBy>
  <dcterms:modified xsi:type="dcterms:W3CDTF">2016-08-11T05:40:05Z</dcterms:modified>
  <cp:revision>16</cp:revision>
  <dc:subject/>
  <dc:title>104年第四季 教育訓練</dc:title>
</cp:coreProperties>
</file>