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1C4-2209-47FB-AD89-1805572C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4E4-53A3-4FE1-9025-711C4CBA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5DA31-6385-494C-A96C-2067DBDB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E7D7F-5361-406E-B170-3CC61D55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28465-ADD6-43AE-93BF-4FD9312E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97C89-9B4D-40B4-B1B5-10979CA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1C4EF-26B1-41B2-8A0C-DED7518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34DD9-C813-4D9C-AD2E-65B6C869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D0D00-F3FE-43C2-88F0-051C9362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66373-1FBD-42A7-885C-ECCD8718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FA0A1-9294-4D66-8DF6-6931B2CA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991C3-8C5F-46CD-A0C1-4BBF8484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DE5-1AB2-444C-A668-977CB3D7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73A19-D0AF-46D2-88A9-D2E5C592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BC3A8-27C5-48F0-A57E-71014CF8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E802A-7371-411D-AD2D-3E2D5D3A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1B08F-1690-45D2-8D7A-F5AE0230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FB930-398B-41D3-A065-40901887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3912C-A041-493C-90C5-8F08162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52670-5A33-4C45-8C1C-6009C0A3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DA43C-EDC7-49EB-AA54-830ECD5F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E8F1A-A833-49F3-AD23-8C1C656D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002A5-6788-4615-863A-4E73AE7B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079-2EB2-44F9-B6D8-7349DBA5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41CDC-7ECD-4F77-9291-119DCCBB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B09F1-1722-4C98-8422-C20AD4C3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FC6D8-2CB3-4CD1-8EA9-D65F191C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1DEF7-36FE-4A4B-BFF2-3BEAFBFE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0B5FF-A91C-4131-8D7A-E963637E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7BBD4-D821-4689-9E7E-DA94C5F1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59229-66F6-41A1-B103-3047D9EA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CAED7-1C78-48D8-8A85-846BC8A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544D9-E626-47F4-8B10-F522F9D8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06E78-0670-472A-847B-47D39E49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8DC6-30A1-4B70-9C82-B8AEF8BE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732E1-4A36-4DA9-AC48-2B756C55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C6D9F-662D-4BF5-AE8D-F4E36F61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A5C4C-DBE1-47B8-ACB3-8D1D09D7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5B740-5C7E-4C2D-AD7D-2C6CD03E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72522-2672-4F05-B6CE-18B58F75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796F7-AEA9-4C27-8120-08F2989B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2216A-C9C1-4473-A5DC-8EF91FB2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65BDC-5271-4456-97BA-BB38CBD7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7AED6-D8D1-4BE6-916F-2E74A8A1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D2686-7A0D-44E9-A58D-B09276D4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ABFA-099A-45F0-9EBC-0ECEF8BB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9F4A4-90C4-4FDA-98E5-2842DB16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80758-E51B-4E88-A9A8-8617B84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A92F5-183A-44DC-B64C-8BE7949D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56CB0-9DD1-41DC-9539-BE31DE61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1FC3D-5444-4B46-82E3-21AF9302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3053-E516-404F-8657-EB5FEE55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BE9F-F9C4-4AD9-B746-FF7FAAB7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058C-12E3-4FBC-89FB-9A316B3E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0FE6-8BA3-4B10-8C32-038FA15C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509F-DF36-4353-BACB-A9761146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C16-3FB9-4F85-A446-43A2CEC5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BA65-6700-4CEB-8EF0-39EBE81F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9FFE-317C-45D6-A16C-4C882124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9FF6-0477-4214-B0A2-6C4D5FA5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0168-3C12-4463-98DD-47BD1FEB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D5A5-06B6-4B98-8B7F-5A09A9CC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4FC9-42C9-47D2-AB10-73355BF9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3354-F423-4BA8-BAE9-EB36C705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DE955-70F3-4B7B-9FF3-3D182D7C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0059-BCBC-48B0-8AD2-9CCC3A54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92F1-7A65-499F-B811-DDD5A946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29F-D863-455A-B8C8-F8DA5EE1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A29B-6BB4-4408-89D9-1DC1D75E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B45A-7BF5-42BF-9197-BEEBD65E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7AF6-B1DC-46A3-87E0-42AE546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BF76A-7A99-4ACF-919F-01D61541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17E56-E6DB-4205-9419-BD83C339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DF68-220F-4E58-9C97-17D9EDBE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4E3B-9A26-4AD2-A8AD-FEDC4415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1A9D-78F9-4085-B4B1-C61B77E6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002F-13B3-474D-B549-86618509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34F6-83A9-474C-9A54-B9EC0DE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CEE-A9E8-4112-A5B3-6E13AD69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DC32F-9584-453F-BAFF-1AA2F4C5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DA4CD-A753-4A82-8385-17F4E41C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D3B5D-727F-477C-B821-6D9BB7B6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BC499-F314-4E0E-A77F-29B8A86F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F1927-D324-4336-B27F-70D842D5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3112-F077-41C2-A0EC-989243BD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E092-580A-4BA0-86BA-988D35FB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FC612-A86C-4DC0-B964-6042715D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D7C1-1E9E-4A03-922A-DBC6F181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68A98-BEA5-4B1A-A89E-A48B68BF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064-C955-4CF7-8A13-699D9E23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398CA-EBFD-402A-ABA6-6D754688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2D2C9-53CA-4F53-B63D-E04757EA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A84E0-ADC6-47F2-B0E5-DAB772CA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1C119-F084-4F31-8E88-845729E9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7EA35-95DD-4A37-A4A3-1311DDF5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F2C10-E2E8-4E4B-BEBF-B3DA390C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FD793-721F-4FFE-A51A-54B8B1E4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88AAA-C9E0-414A-94EE-8A2262B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23E47-D7BB-46E8-A9DC-EFBD0668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8967-9B37-45BE-97FF-7ECE3D86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B78-7B24-4E10-88E9-F7548480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98B80-2134-46BF-A0A4-9B2AFABC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22178-9A67-4D70-8384-6114B8F3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2901-7620-4A4F-A961-8D66AE80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B0AC-A922-423A-8A00-3E77A7C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742AA-E3E5-4B06-8596-F8235FC3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F0E2E-DF6E-4366-AD69-C2E7C30D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556CA-174B-426F-A4C3-16CE2FB7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0896F-DEE3-4A03-93BB-858E5796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606EA-ECFF-4FA0-979B-CCC34193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F00AD-6B37-4FDA-AB19-1A85F655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512-8F56-4828-88FD-BC8526C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4B2FB-108C-44A8-A8AB-70473630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12050-0DE1-4BF6-9C53-0835F2BB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BB334-8139-4EC2-A8AB-53B5EA95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FDA07-5117-4806-B8B0-072947CC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78783-72BA-43D3-9518-830C1BA4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28A22-A5DE-4869-94DF-44C4F8BF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3C8D3-203A-4658-A5E5-C826C9A0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3A84A-5289-40F8-8ADD-48C0690B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CE28-A6BC-4C9E-87DE-FA149862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0BF16-CE98-44E2-80CA-9DD0DA03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E7A-AEA7-4C1A-A898-4ADB1C3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3FFA9-A227-45CD-8243-C426EE4F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D51F7-D6B3-46EC-8A83-0F738B84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88B12-36D3-4FAC-8319-7A052E89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5157A-74CD-447E-8F03-30C3E27C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61D8E-E991-499F-B6B4-5CF81096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CE998-619A-43F3-9827-C8BF0CD1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4FD35-8F14-4A16-8BD5-FF4BB257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DD7B5-E563-4247-865E-77671228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9906D-52A7-453A-9EE9-3D15EB48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17193-527B-41C8-91FB-295C15EC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BD9-799F-4F59-B43D-64A3DFC1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6A66C-6A72-4BF9-BB79-37103ADF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AC169-E4E6-4023-B9B8-96131AE3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A2946-27EB-4DEF-BB0D-A962969D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E2493-8517-4AF0-A0E1-CF620B41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0CAF7-4C5D-4894-A3FD-73ABD934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1390A-3A7F-425B-B960-2A5211EF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FA266-BBD4-4B0C-98B7-F484B53D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E0A83-E495-43A8-B89A-B95DDB6A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E967B-D33E-4103-9FF0-42EDE50D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BDBFC-A9E7-4546-A718-6E35A66E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F5F6-9218-4AAD-AEF7-825C81606A8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4029-9963-4E8F-94CC-AA5E9E57E3F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29D0-5B96-44AB-8819-1775FF1A492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08F1-315F-42D6-98DE-0C473B807B3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91D6-716A-4976-9104-1336D9E0F12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2D5F-6CA1-4E93-8BDC-55CD806E3BB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E72A-A745-4B15-A666-8A945490038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AE0E-F853-4CE0-A0C1-8BBE1AEF8D0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DEBE-5D7C-4003-BAC9-0C5F297292B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3A21-FAD8-4F22-BBCD-7F729BD3162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0448-F3FA-4520-9FEA-5B4E77B42C1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B681-F355-4710-80E7-FC574CAD42F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105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年第二次 教育訓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</a:rPr>
              <a:t>簡報者：張豔玥     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</a:rPr>
              <a:t>105.08.23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8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9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違反個資法規定，致個資遭不法蒐集、處理、利用或其他侵害當事人權利者，負損害賠償責任。但損害因天災、事變或其他不可抗力所致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如被害人不易或不能證明其實際損害額，以每人每一事件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00~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計算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同一原因事實造成多人權利受侵害，經當事人求償，最高以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億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為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能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證明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其無故意或過失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2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意圖營利違法蒐集、處理、利用或國際傳遞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 國際傳遞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限制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，得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意圖營利而對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進行非法變更、刪除或以其他非法方法，致妨害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之正確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而足生損害他人者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、拘役或科、或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10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舉證：軌跡紀錄、書面同意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為國際傳輸個人資料，而有下列情形之一者，中央目的事業主管機關得限制之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一、涉及國家重大利益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二、國際條約或協定有特別規定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三、接受國對於個人資料之保護未有完善之法規，致有損當事人權益之虞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四、以迂迴方法向第三國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地區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傳輸個人資料規避本法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國際傳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73e87"/>
                </a:solidFill>
                <a:latin typeface="標楷體"/>
              </a:rPr>
              <a:t>   </a:t>
            </a:r>
            <a:r>
              <a:rPr b="0" lang="en-US" sz="9600" spc="-1" strike="noStrike">
                <a:solidFill>
                  <a:srgbClr val="073e87"/>
                </a:solidFill>
                <a:latin typeface="標楷體"/>
              </a:rPr>
              <a:t>THE END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</a:rPr>
              <a:t>謝謝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BS10012 </a:t>
            </a: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個人資訊管理系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有效期限：</a:t>
            </a: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2014.1.08.~2017.1.07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標楷體"/>
              </a:rPr>
              <a:t>公司的認證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品質 是我們一貫的堅持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專業 是我們服務的基礎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誠懇 是我們處事的態度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安全 是我們事業的保障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lvl="1" marL="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</a:rPr>
              <a:t>資訊安全政策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71560" y="2421000"/>
            <a:ext cx="740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中華民國個人資料保護法及其相關法律法規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公司個人資料保護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保護受託客戶之資訊安全及遵守個人資料管理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      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對於資訊安全及個人資料蒐集、處理及利用，因執行業務所持有之任何個人資料，負有保密義務，非經公司同意，不得以任何方式，直接或間接向第三人透露或使其知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BS10012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保護要求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個人資料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：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指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自然人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之姓名、出生年月日、身分證統一編號、護照號碼、特徵、指紋、婚姻、家庭、教育、職業、病歷、醫療、基因、性生活、健康檢查、犯罪前科、聯絡方式、財務情況、社會活動及其他得以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直接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或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間接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方式識別該個人之資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依法公告、公開或應刊登公報的法人資料，不受個資法規範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例如：公司統一編號、營業處所、負責人姓名等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名詞定義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新細明體"/>
              </a:rPr>
              <a:t>蒐集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：指以任何方式取得個人資料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處理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為建立或利用個人資料檔案所為資料之記錄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、輸入、儲存、編輯、更正、複製、檢索、刪除、輸出、連結或內部傳送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利用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將蒐集之個人資料為處理以外之使用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個人資料 名詞定義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第八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</a:rPr>
              <a:t>非公務機關</a:t>
            </a: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依第十五條或第十九條規定向當事人蒐集個人資料時，應明確告知當事人下列事項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資法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-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告知義務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9" name="圖片 3" descr=""/>
          <p:cNvPicPr/>
          <p:nvPr/>
        </p:nvPicPr>
        <p:blipFill>
          <a:blip r:embed="rId1"/>
          <a:stretch/>
        </p:blipFill>
        <p:spPr>
          <a:xfrm>
            <a:off x="1004760" y="3068640"/>
            <a:ext cx="7383600" cy="36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871560" y="1916280"/>
            <a:ext cx="7408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依據個人資料管理之要求，公司蒐集個人資料之特定目的為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02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人事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90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消費者、客戶管理與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07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採購與供應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1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場所進出安全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5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與資料庫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81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其他經營合於營業登記項目或組織章程所定之業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</a:rPr>
              <a:t>個人資料 特定目的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本公司蒐集個人資料之類別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識別個人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住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工作地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住家電話號碼、行動電話、即時通帳號、相片、指紋</a:t>
            </a: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…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等其他任何可辨識資料本人者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2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辨識財務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金融機構帳戶之號碼與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信用卡或簽帳卡之號碼、個人之其他號碼或帳戶等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2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家庭其他成員之細節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5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學校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6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離職經過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8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信用評等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11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健康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 範圍及類別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5:38:07Z</dcterms:created>
  <dc:creator>User</dc:creator>
  <dc:description/>
  <dc:language>en-US</dc:language>
  <cp:lastModifiedBy>linda</cp:lastModifiedBy>
  <dcterms:modified xsi:type="dcterms:W3CDTF">2016-08-11T05:40:05Z</dcterms:modified>
  <cp:revision>16</cp:revision>
  <dc:subject/>
  <dc:title>104年第四季 教育訓練</dc:title>
</cp:coreProperties>
</file>